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704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-360" y="-6006960"/>
            <a:ext cx="360" cy="13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38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472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840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472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840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522000"/>
            <a:ext cx="7759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472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840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104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472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840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71040" y="522000"/>
            <a:ext cx="7759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472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840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7104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472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840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71040" y="522000"/>
            <a:ext cx="7759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472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18400" y="190656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104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472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18400" y="4147920"/>
            <a:ext cx="24984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1040" y="522000"/>
            <a:ext cx="7759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240" y="414792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906560"/>
            <a:ext cx="378648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147920"/>
            <a:ext cx="775980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8028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02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94360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3116160"/>
            <a:ext cx="9144000" cy="37339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593568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219320" y="2362320"/>
            <a:ext cx="7354800" cy="1411200"/>
            <a:chOff x="1219320" y="2362320"/>
            <a:chExt cx="7354800" cy="1411200"/>
          </a:xfrm>
        </p:grpSpPr>
        <p:sp>
          <p:nvSpPr>
            <p:cNvPr id="42" name=""/>
            <p:cNvSpPr/>
            <p:nvPr/>
          </p:nvSpPr>
          <p:spPr>
            <a:xfrm>
              <a:off x="1219320" y="2362320"/>
              <a:ext cx="7354800" cy="141120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19320" y="2710080"/>
              <a:ext cx="73548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title styl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217520" y="4210200"/>
            <a:ext cx="7344000" cy="547200"/>
            <a:chOff x="1217520" y="4210200"/>
            <a:chExt cx="7344000" cy="547200"/>
          </a:xfrm>
        </p:grpSpPr>
        <p:sp>
          <p:nvSpPr>
            <p:cNvPr id="45" name=""/>
            <p:cNvSpPr/>
            <p:nvPr/>
          </p:nvSpPr>
          <p:spPr>
            <a:xfrm>
              <a:off x="1217520" y="4267080"/>
              <a:ext cx="734400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7520" y="4210200"/>
              <a:ext cx="73440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subtitle sty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19320" y="1752480"/>
            <a:ext cx="7343640" cy="441360"/>
            <a:chOff x="1219320" y="1752480"/>
            <a:chExt cx="7343640" cy="441360"/>
          </a:xfrm>
        </p:grpSpPr>
        <p:sp>
          <p:nvSpPr>
            <p:cNvPr id="48" name=""/>
            <p:cNvSpPr/>
            <p:nvPr/>
          </p:nvSpPr>
          <p:spPr>
            <a:xfrm>
              <a:off x="1219320" y="1752480"/>
              <a:ext cx="7343640" cy="41940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19320" y="1752480"/>
              <a:ext cx="7343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riefing f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236680" cy="86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7096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7096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4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5980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29052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25560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9400" indent="-17604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22000"/>
            <a:ext cx="7759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59800" cy="429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84120" indent="-29052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25560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9400" indent="-17604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1400" indent="-193680">
              <a:lnSpc>
                <a:spcPct val="5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60360" y="2340000"/>
            <a:ext cx="8459640" cy="1293840"/>
            <a:chOff x="360360" y="2340000"/>
            <a:chExt cx="8459640" cy="1293840"/>
          </a:xfrm>
        </p:grpSpPr>
        <p:sp>
          <p:nvSpPr>
            <p:cNvPr id="201" name=""/>
            <p:cNvSpPr/>
            <p:nvPr/>
          </p:nvSpPr>
          <p:spPr>
            <a:xfrm>
              <a:off x="360360" y="2340000"/>
              <a:ext cx="8459640" cy="129384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0360" y="2405160"/>
              <a:ext cx="84596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93000"/>
                </a:lnSpc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600" spc="-1" strike="noStrike">
                  <a:solidFill>
                    <a:srgbClr val="333333"/>
                  </a:solidFill>
                  <a:latin typeface="Verdana"/>
                </a:rPr>
                <a:t>Practical 10 Minutes Security Audi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600" spc="-1" strike="noStrike">
                  <a:solidFill>
                    <a:srgbClr val="333333"/>
                  </a:solidFill>
                  <a:latin typeface="Verdana"/>
                </a:rPr>
                <a:t>Oracle C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22160" y="4903920"/>
            <a:ext cx="7390080" cy="1143000"/>
            <a:chOff x="722160" y="4903920"/>
            <a:chExt cx="7390080" cy="1143000"/>
          </a:xfrm>
        </p:grpSpPr>
        <p:sp>
          <p:nvSpPr>
            <p:cNvPr id="204" name=""/>
            <p:cNvSpPr/>
            <p:nvPr/>
          </p:nvSpPr>
          <p:spPr>
            <a:xfrm>
              <a:off x="722160" y="4903920"/>
              <a:ext cx="73900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2160" y="4903920"/>
              <a:ext cx="73900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333333"/>
                  </a:solidFill>
                  <a:latin typeface="Verdana"/>
                  <a:ea typeface="MS Gothic"/>
                </a:rPr>
                <a:t>Cesar Cerru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333333"/>
                  </a:solidFill>
                  <a:latin typeface="Verdana"/>
                  <a:ea typeface="MS Gothic"/>
                </a:rPr>
                <a:t>Argeni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9520" y="165240"/>
            <a:ext cx="3470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Getting techn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20404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Oracle has always nice surprises for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SetKernelObjectSecurity() is being used for changing the DACL on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Looking at process permissions we can see Everyone group has PROCESS_DUP_HANDLE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Why would someone do tha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Maybe it's on Oracle superior secure coding g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Very bad design and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Let's see now how to exploi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Owning Ora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0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With  PROCESS_DUP_HANDLE rights, how can we get arbitrary code exec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We can duplicate data files handles and read all the data but we want arbitrary code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We can duplicate impersonation tokens but low privileged users can't impersonate :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What about duplicating a thread and changing context to execute our co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We only need a way to put our code at know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We can put the code in the shared section we previously saw (remember it has full permissions for Every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82040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Very easy and quick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Just making click on proper tools you can quickly identify these vulner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f you like to work at low level, using IDA to identify these vulnerabilities is even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  <a:ea typeface="Courier New"/>
              </a:rPr>
              <a:t>Most of these vulnerabilities can be exploited to just cause a DoS but in some cases they can be exploited to run arbitrary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5960" y="1708200"/>
            <a:ext cx="83851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Total spent time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1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Skills needed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n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Number of vulnerabilities found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 5 or more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Oracle database versions affected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PoC exploit code provided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Money invested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$ 0.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aving fun with Oracle software and pointing out Oracle security excellence: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</a:rPr>
              <a:t>pricel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33333"/>
                </a:solidFill>
                <a:latin typeface="Verdana"/>
                <a:ea typeface="Courier New"/>
              </a:rPr>
              <a:t>Oracle continues showing that it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33333"/>
                </a:solidFill>
                <a:latin typeface="Verdana"/>
                <a:ea typeface="Courier New"/>
              </a:rPr>
              <a:t> </a:t>
            </a:r>
            <a:r>
              <a:rPr b="1" lang="en-GB" sz="2600" spc="-1" strike="noStrike">
                <a:solidFill>
                  <a:srgbClr val="333333"/>
                </a:solidFill>
                <a:latin typeface="Verdana"/>
                <a:ea typeface="Courier New"/>
              </a:rPr>
              <a:t>extremely hard to brea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30080" y="1693800"/>
            <a:ext cx="8202960" cy="45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Thunder and MAD we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blogs.oracle.com/maryanndavids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Process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www.sysinternal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Win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www.sysinternal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Pipeac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www.bindview.com/Services/razor/Utilities/Windows/pipeacltools1_0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WLSI – Windows Local Shellcode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www.argeniss.com/research/WLSI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0080" y="1801440"/>
            <a:ext cx="8202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Hacking Windows Inte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www.argeniss.com/research/hackwininter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SetSecurityDescriptorDacl()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msdn.microsoft.com/library/default.asp?url=/library/en-us/secauthz/security/setsecuritydescriptordacl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  <a:ea typeface="Courier New"/>
              </a:rPr>
              <a:t>SetKernelObjectSecurity()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http://msdn.microsoft.com/library/default.asp?url=/library/en-us/secauthz/security/setkernelobjectsecurity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97000"/>
            <a:ext cx="82328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  <a:ea typeface="Lucida Sans Unicode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32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5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Verdana"/>
                <a:ea typeface="Lucida Sans Unico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Verdana"/>
                <a:ea typeface="Lucida Sans Unicode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Verdana"/>
                <a:ea typeface="Lucida Sans Unicode"/>
              </a:rPr>
              <a:t>Contact: cesar&gt;at&lt;argeniss&gt;dot&lt;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33333"/>
                </a:solidFill>
                <a:latin typeface="Verdana"/>
                <a:ea typeface="Lucida Sans Unicode"/>
              </a:rPr>
              <a:t>Argeniss – Information 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 algn="ctr">
              <a:lnSpc>
                <a:spcPct val="102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34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Verdana"/>
              </a:rPr>
              <a:t>http://www.argenis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3160" y="149400"/>
            <a:ext cx="34700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8640" y="180180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ntroductio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The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Finding 0days in Ora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Getting techn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Owning Ora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228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0000" y="1715760"/>
            <a:ext cx="867564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Sometimes it's needed a way to infer how trustable and secure a software is before purchasing and/or deplo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A full auditing takes a lot of time and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A quick and very easy audit technique can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t can be done by non very technically skille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t reduces auditing time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any of these kind of techniques can be combined for better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f you can find issues in a couple of minutes then you can be almost sure that the software is not very 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The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04040" cy="44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This technique is for easily and quickly auditing Windows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t is as simple as looking at process objects identifying weak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Weak permissions allow object manipulation by unprivileged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hanging permissions on objects can crash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Depending on the object type sometimes is even possible to get arbitrary code execution as it will be demonstrated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The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5960" y="1584000"/>
            <a:ext cx="8385120" cy="49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The following tools are nee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rocess Explo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WinOb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ipeacl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nstall and run the software to be aud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dentify software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ostly we should care about privileged process lik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Regular processes should be audited if the application will be used in a shared environment such as Terminal Services, Citrix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The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5600" y="1682640"/>
            <a:ext cx="82040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Start looking at process objects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Look at named objects created by the process that can be opened from other processes such as events, mutexes, semaphores, sections, pipes, thread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Identify weak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Look for low privileged accounts with 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“Change Permissions” or “Write DACL” per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If no groups or user accounts are listed then the object was created with a null D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Then all users have full control over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The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520" y="1697040"/>
            <a:ext cx="8204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5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Change permissions on objects found and interact with the audited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rocess Explorer doesn't let to edit permissions on some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WinObj and Pipeacl tools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Look if the application crash or stop respo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Findings 0days in Ora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20404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Let's see the technique in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Let's audit Oracle 10g R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Extremely secur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n house audited with next generation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The proud of Oracle security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Hard challenge for finding vulner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t makes Windows unbreak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Verdana"/>
              </a:rPr>
              <a:t>D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Getting techn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20404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bjects weak permissions problem is because improper use of SetSecurityDescriptorDacl()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If third function parameter (pDacl) is set as NULL a NULL DACL is assigned to the security descriptor and no protection is assigned to th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Documented on MS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  <a:ea typeface="Courier New"/>
              </a:rPr>
              <a:t>It seems some Oracle people is allergic to read Microsoft related st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Identifying bad usage of SetSecurityDescriptorDacl() function is a 5 minutes IDA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  <a:ea typeface="Courier New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