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25F-B90A-4FDF-BA75-223F796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341-FA45-4C13-A18E-E4EBB839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34A-DAE3-467C-864A-2335782C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023-CC19-4C77-BBAE-D90B3321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7A8-C001-4F02-822B-24BEFCC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B2E-8A24-4B00-91EC-4E0D27E5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FC-84BF-469C-BAAD-1F7C658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FC6-5CE7-4AB5-BDCB-8CE7797E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705-3FB8-4269-9C38-A73328B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49D-877F-43F5-8B2A-AFCFFA2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A52-934E-465A-9703-238E032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071-97EB-45FA-ABCE-1E1ED36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BB9-1B31-40E9-8DB8-2DEC5D6BF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tasploit.com/" TargetMode="External"/><Relationship Id="rId2" Type="http://schemas.openxmlformats.org/officeDocument/2006/relationships/hyperlink" Target="http://www.delikon.de/shellbuch/tools.zip" TargetMode="External"/><Relationship Id="rId3" Type="http://schemas.openxmlformats.org/officeDocument/2006/relationships/hyperlink" Target="http://www.delikon.de/" TargetMode="External"/><Relationship Id="rId4" Type="http://schemas.openxmlformats.org/officeDocument/2006/relationships/hyperlink" Target="mailto:ich@delikon.de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likon.de/zips/remote.zi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imple tutorial about Win32 Shell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ith the following multicolored pictures i try,to point out the tools and the easiest way(not the best, for the best look at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tasploit.co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) to construct a win32 shellcode.This paper aims on people, which have read some papers about Bofs and shellcoding for Linux, but never have written some assembler codes for Win32.In this paper i only use hardcoded function-addresse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tools you ne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V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a Text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the sourecode and binarys of the following tools and the sourcecodes i use in the tutorial are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(http://www.delikon.de/shellbuch/tools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or comments visit me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or mail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ch@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everything works well now, please copy the code in a arbitrary file and delete the "ptr" string, because nasm doesn't know this syntax, and write for the header "BITS 32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nished-asm-file" descr=""/>
          <p:cNvPicPr/>
          <p:nvPr/>
        </p:nvPicPr>
        <p:blipFill>
          <a:blip r:embed="rId1"/>
          <a:stretch/>
        </p:blipFill>
        <p:spPr>
          <a:xfrm>
            <a:off x="0" y="1046160"/>
            <a:ext cx="8001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mpile the file 2.asm with nasm, and generate with my tool makeshell.ex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2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.ex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you can find the shellcode in the file shellcode.c, he will work well(compile it and test it) but it contains NULL-BYTES which can cause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how-normal-shell" descr=""/>
          <p:cNvPicPr/>
          <p:nvPr/>
        </p:nvPicPr>
        <p:blipFill>
          <a:blip r:embed="rId1"/>
          <a:stretch/>
        </p:blipFill>
        <p:spPr>
          <a:xfrm>
            <a:off x="0" y="2406600"/>
            <a:ext cx="63752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915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away the NULL-BYTES, we have to Xor the shellcode.Please use for this my tool encode.ex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encode 2 0x95 &gt;&gt;db-array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de checks if the are any null-bytes or bytes which you cannot use in windows-file-names, because you never know for what you need the shellcode(look at the winhelp32.exe overflow).At this picture is everything allright.Now paste this array in a decryption-code,because without you cannot us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how-db-array" descr=""/>
          <p:cNvPicPr/>
          <p:nvPr/>
        </p:nvPicPr>
        <p:blipFill>
          <a:blip r:embed="rId1"/>
          <a:stretch/>
        </p:blipFill>
        <p:spPr>
          <a:xfrm>
            <a:off x="0" y="2819520"/>
            <a:ext cx="8934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heck if it looks like this.Dont't forget to paste the right xor byte in . in this case 0x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how-decode-source" descr=""/>
          <p:cNvPicPr/>
          <p:nvPr/>
        </p:nvPicPr>
        <p:blipFill>
          <a:blip r:embed="rId1"/>
          <a:stretch/>
        </p:blipFill>
        <p:spPr>
          <a:xfrm>
            <a:off x="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89154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the only thing to do is to compile it and generate the c-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decode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 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and every Null-byte is gone(\x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remote hacks you need another command. This one -&gt;'cmd /c net share c=c:"'. With this command you can share the c: drive with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ourcecodes for this shellcode you can fin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http://www.delikon.de/zips/remote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how-encoded-shell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5460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915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the code we want to disassemble .It consists of 2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he execution of a CMD-shel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a exit(1) call, this call is very important,because if we use the shellcode in a bufferoverlow, and close the shell we would cause a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how-c-code" descr=""/>
          <p:cNvPicPr/>
          <p:nvPr/>
        </p:nvPicPr>
        <p:blipFill>
          <a:blip r:embed="rId1"/>
          <a:stretch/>
        </p:blipFill>
        <p:spPr>
          <a:xfrm>
            <a:off x="914400" y="1598760"/>
            <a:ext cx="7238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will debug your code, the first thing to do, put the cursor right behind the exit(1) call and start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un-c-code" descr=""/>
          <p:cNvPicPr/>
          <p:nvPr/>
        </p:nvPicPr>
        <p:blipFill>
          <a:blip r:embed="rId1"/>
          <a:stretch/>
        </p:blipFill>
        <p:spPr>
          <a:xfrm>
            <a:off x="45720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start the disassem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sas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py everything from main till call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copy everything from main till call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ebug" descr=""/>
          <p:cNvPicPr/>
          <p:nvPr/>
        </p:nvPicPr>
        <p:blipFill>
          <a:blip r:embed="rId1"/>
          <a:stretch/>
        </p:blipFill>
        <p:spPr>
          <a:xfrm>
            <a:off x="0" y="601560"/>
            <a:ext cx="8610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paste everything in __asm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py-debug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will left only the important lines of code,because your goal is to code a very small shellcod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ormat-code2" descr=""/>
          <p:cNvPicPr/>
          <p:nvPr/>
        </p:nvPicPr>
        <p:blipFill>
          <a:blip r:embed="rId1"/>
          <a:stretch/>
        </p:blipFill>
        <p:spPr>
          <a:xfrm>
            <a:off x="0" y="657360"/>
            <a:ext cx="85345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0676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need the two function addresses of WinExec and Exit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at we use depends.exe(from the Microsoft SDK) and open with depends the compiled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ddress of WinExec is the kerneladdress + the Entry Point of WinExec = 0x77e70000+0x00018601=0x77e88601 now do the same with ExitProcess (Maybe you have different addres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earch-winexec-addr" descr=""/>
          <p:cNvPicPr/>
          <p:nvPr/>
        </p:nvPicPr>
        <p:blipFill>
          <a:blip r:embed="rId1"/>
          <a:stretch/>
        </p:blipFill>
        <p:spPr>
          <a:xfrm>
            <a:off x="914400" y="2319480"/>
            <a:ext cx="62485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nly thing which is left, is to move the addresses into eax and call it . Now compile the code and start it, if the code looks like this picture but don't work, you have used the wrong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c-finished-code" descr=""/>
          <p:cNvPicPr/>
          <p:nvPr/>
        </p:nvPicPr>
        <p:blipFill>
          <a:blip r:embed="rId1"/>
          <a:stretch/>
        </p:blipFill>
        <p:spPr>
          <a:xfrm>
            <a:off x="0" y="934920"/>
            <a:ext cx="8153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1:51:56Z</dcterms:created>
  <dc:creator>dfsdf</dc:creator>
  <dc:description/>
  <dc:language>en-US</dc:language>
  <cp:lastModifiedBy>dfsdf</cp:lastModifiedBy>
  <dcterms:modified xsi:type="dcterms:W3CDTF">2003-11-23T12:52:07Z</dcterms:modified>
  <cp:revision>3</cp:revision>
  <dc:subject/>
  <dc:title>PowerPoint-Präsentation</dc:title>
</cp:coreProperties>
</file>