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8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FDAA-5BD2-4168-9FF7-16AC2FE17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to recap a bit, If someone were to compromise your system, or a rogue admin, all they would need to do is pop the name of the dll into this key and reboot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wait for a rebo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reboot, the dll can start intercepting whatever data it is interested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ess you look for this, you’ll miss it as a backdoor possibil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gnature of an attack is either the name of an unkown dll placed in ke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nknown dll’s showing up in your process lis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is bad news. Requiring the manual investig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everal things to do to protect against this attack and others lik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be aware of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, know it’s default properties, that it is empty by default, no mainstream apps use it. That it can be erased but still used while system is 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, audit the value for changes with Regedt32 and the security/auditing me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, use a file integrity checker like Pedestal Software’s Intact or Tripwire’s NT version for Tripw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finally, erase the value and reboot the system will at lest get rid of that problem. There may be others to worry ab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sites contain the software mentioned in this ta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l0pht.com - l0phtckrack.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ysinternals.com - pslist.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tripwiresecurity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pedestalsoftwar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webspan.net/~tas/pwdum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69C5-AFFD-4817-AF54-C34C95FD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F279-30FB-4AC7-8030-60F2FFE5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8A18-A87F-430F-B558-4204CB22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394B-EAA0-4D5D-84C0-776C2155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6F15-73DE-4E92-8CC8-889D5736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78DA-1C3A-410B-B257-BA381874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09B8-DDEC-40D0-B24B-534E0057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7256-02D3-49A7-9D08-DC429C4E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135F-572E-4D8A-8047-3D4C0EF5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D8AB-C9BE-451C-8CFF-D33B11F8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52EB-0977-41F8-8F42-77F09457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69E3-E71C-4BDB-99FF-0BB35529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DD78-0A0F-475C-8DF7-337FF89E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4C73-CB98-4405-BFDD-71F4ED85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F261-7B12-4B8A-861E-0F99717C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3C6A-2046-4F25-8519-38227CE5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5C1E-BC88-4985-AD3F-818C10FF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186B-6F76-43D8-83C1-D23629BD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2B02-48E1-470A-8C25-1738BAE5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0D35-633F-46C9-9F3D-0D5BE251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D6B3-7F9E-4875-9465-E2927E33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9B9D-4E0E-4905-A5C7-F3CDC73A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5688-BE7B-4F69-BC57-437F73E3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30FD-CC83-45B1-B4AC-FF8553E8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0CA3-1165-4B1C-8C4B-768C508151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2BE4-9624-4E62-A809-DBD2179341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trusion Auditing Under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indows NT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tching Greg Hoglund - Part 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JD Gla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dglaser@ntobjectiv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NetMon Tip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ok up MS NetMon to watch all outgoing traffic of a suspected breached ho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aware that the generated traffic can have forged source address 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heck File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eak out the file integrity chec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use a home-made solution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your own baseline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l can be used here to great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hing. all files match to origi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new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.EXE Side Note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 file as ~ in temp directory can confuse a tripwire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? because you probably aren't going to take time to look at the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you have scripted TW to avoid looking 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TaskMan Showing ~EXE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pic>
        <p:nvPicPr>
          <p:cNvPr id="173" name="tempEXE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2485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Executing ~.tmp File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pic>
        <p:nvPicPr>
          <p:cNvPr id="175" name="runbad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772400" cy="1438200"/>
          </a:xfrm>
          <a:prstGeom prst="rect">
            <a:avLst/>
          </a:prstGeom>
          <a:ln w="0">
            <a:noFill/>
          </a:ln>
        </p:spPr>
      </p:pic>
      <p:pic>
        <p:nvPicPr>
          <p:cNvPr id="176" name="runbadnotice" descr=""/>
          <p:cNvPicPr/>
          <p:nvPr/>
        </p:nvPicPr>
        <p:blipFill>
          <a:blip r:embed="rId2"/>
          <a:stretch/>
        </p:blipFill>
        <p:spPr>
          <a:xfrm>
            <a:off x="1523880" y="3581280"/>
            <a:ext cx="6048360" cy="1133640"/>
          </a:xfrm>
          <a:prstGeom prst="rect">
            <a:avLst/>
          </a:prstGeom>
          <a:ln w="0">
            <a:noFill/>
          </a:ln>
        </p:spPr>
      </p:pic>
      <p:pic>
        <p:nvPicPr>
          <p:cNvPr id="177" name="rungood" descr=""/>
          <p:cNvPicPr/>
          <p:nvPr/>
        </p:nvPicPr>
        <p:blipFill>
          <a:blip r:embed="rId3"/>
          <a:stretch/>
        </p:blipFill>
        <p:spPr>
          <a:xfrm>
            <a:off x="1371600" y="4876920"/>
            <a:ext cx="63626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~ Points</a:t>
            </a: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e checkers create ‘Time Sweeps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ves wide trial showing what to av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one method to sidest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Examine RID’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k at latest RID, none have been added (NT uses them sequentially and never reuses the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see accounts have been created/dele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Getting to RID Registry Key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pic>
        <p:nvPicPr>
          <p:cNvPr id="183" name="gettingRIDs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96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Proceed Right Pas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Admins get stuck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menu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yourself the rights to sub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ed right past the gr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RID Registry Key Screen Sho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pic>
        <p:nvPicPr>
          <p:cNvPr id="187" name="RIDcounts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ls I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 tools I have wr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ful techniqu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Key RID Point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ine key, see the admin (500 dec = 1F4 he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ice 3E8 this is 1000 the first user account, always starts this way on NT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ice 3E9 is missing - need to account for this, could have been used in att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Why do I need an Audit Tool?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ts down research time considerab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few hours manually  vs. min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mates sear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out it, looking at entries in the event log is on an individual basis 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be hand match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minates Hass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 to hand match logs hexadecimal ID’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NTLast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ware command line audit tool that analyzes the NT event 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ches logon times with logoff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s user time frames for further forens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quickly displays who logged on and w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long they were logged 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on Failures - no way to plainly see this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CLUE:  Where did they come from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TE - ALWAYS REFERENCE AGAINST THE EVENT L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Setting Up the Audit - Errors 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common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lowing slide explains the mistake of setting auditing for only one file, when you think auditing has been set for several files - NT GUI is a bit misleading here. Unless you go back and check, you can’t be sure your files are being au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ice on first slide that ACE’s are added for the first group, But second slide shows the following groups have no ACE’s assign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 = No Eff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Setup Error #1 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auditmistake1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6095880" cy="4495680"/>
          </a:xfrm>
          <a:prstGeom prst="rect">
            <a:avLst/>
          </a:prstGeom>
          <a:ln w="0">
            <a:noFill/>
          </a:ln>
        </p:spPr>
      </p:pic>
      <p:pic>
        <p:nvPicPr>
          <p:cNvPr id="203" name="NTO_logo_sm6" descr=""/>
          <p:cNvPicPr/>
          <p:nvPr/>
        </p:nvPicPr>
        <p:blipFill>
          <a:blip r:embed="rId2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Setup Error #2 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auditmistake2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6095880" cy="4495680"/>
          </a:xfrm>
          <a:prstGeom prst="rect">
            <a:avLst/>
          </a:prstGeom>
          <a:ln w="0">
            <a:noFill/>
          </a:ln>
        </p:spPr>
      </p:pic>
      <p:pic>
        <p:nvPicPr>
          <p:cNvPr id="208" name="NTO_logo_sm6" descr=""/>
          <p:cNvPicPr/>
          <p:nvPr/>
        </p:nvPicPr>
        <p:blipFill>
          <a:blip r:embed="rId2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Running NTLast 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ortant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diting must have already been turned on and events have been recor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doesn't do any good to run NTLast against an empty log. NT has security auditing turned off by default, so this must be specifically done beforeh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Combining Switches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tlast /f /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tlast -f -r -n 2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tlast /i /not Administrato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tlast -m \\machinename -f -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ts the last 10 failed interactive logon attemp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ts the last 25 failed remote logon attemp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ts the last 10 interactive logons by other accounts besides "Administrator"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ts the last 10 failed remote attempts against machine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Watching for Logon Failures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lures are indicated by a single value of 528 in the NT Event Log. This is not easy to spot, nor count. At first glance, determining which account failed the logon is not obvious eith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e the following slide of how to use the -F switch with NTLast to view all the failed logon attempts against you box quick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P - I keep ntlast in my path and I place a shortcut to it from explorer so I   can get to it quickly - See appendix for details on setting this 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P - I also keep a shortcut placed on my desk to the event viewer, and have the sec log as the default log to look at.  See appendix for details of how to do this.*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Routine Password Guessing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TLas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r -n 100 &gt;&gt; results.tx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sans      \\LIONESS    BDC2    Sun Jun 20 09:04:13p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sans      \\LIONESS    BDC2    Sun Jun 20 09:04:13p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sans      \\LIONESS    BDC2    Sun Jun 20 09:04:14p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rogers    \\LIONESS    BDC2    Sun Jun 20 09:04:14p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rogers    \\LIONESS    BDC2    Sun Jun 20 09:04:15p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rogers    \\LIONESS    BDC2    Sun Jun 20 09:04:15p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indfeld   \\LIONESS    BDC2    Sun Jun 20 09:04:16p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indfeld   \\LIONESS    BDC2    Sun Jun 20 09:04:16p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ice as well the close times synchs - indicates automated guess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ably attempting 3 common guesses as to not trigger a locko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*Note - Using -f switch for failure lookup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*Note - Redirecting ntlast output to file to save resul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My Morning E-Mail Message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5640" y="2743200"/>
            <a:ext cx="3886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’re h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Remote Usage Results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TLast -r &gt;&gt; results.t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indfeld     \\RIND              BDC2   Mon Jun 21 10:10:00a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indfeld     \\RIND              BDC2   Sun Jun 20 04:41:15p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indfeld     \\SUSANS        BDC2   Sat Jun 19 12:47:14am 1999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lt;--Oddb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rogers      \\MROGERS    BDC2   Tue Jun 15 12:38:32p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sans        \\SUSANS        BDC2   Wed Jun 09 04:47:52p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rogers      \\MROGERS    BDC2   Wed Jun 09 06:40:52p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indfeld     \\RIND              BDC2   Wed Jun 09 09:31:21a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e oddball here, erindfeld logging on from someone else’s box late at nigh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*Note - Redirecting ntlast output to file to save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Evidence of a Sniffed Password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TLast -r -n 200 &gt;&gt; results.t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ianm     \\LION             ACCT   Wed Apr 21 02:07:30am 1999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--AL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ianm     \\LION             ACCT   Sat Apr 17 12:57:22am 1999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--AL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llager   \\DOCSERV    ACCT   Thu Apr 08 05:45:14pm 1999 &lt;--Normal remo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llager   \\DOCSERV    ACCT   Wed Apr 07 05:18:03pm 1999 &lt;--Normal remo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masl   \\DOCSERV    ACCT   Tue Apr 06 05:58:34pm 1999 &lt;--Normal remo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ianm     \\BRIANM       ACCT   Mon Apr 02 02:09:29pm 1999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--Normal remo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masl   \\THOMASL    ACCT   Mon Apr 02 11:01:19am 1999 &lt;--Normal remo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ime lag between brianm logging on from his machine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logging on from unknown remote box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tes time needed to crack sniffed password. Notice no failures - Fairly significant - strong evidence of a sniffed passw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Remote User Activity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TLast -r -u brianm -n 3 &gt;&gt; results.t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ianm    \\LION    BDC2   Mon Jun 07 09:10:00p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ianm    \\LION    BDC2   Sun Jun 06 03:41:15a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ianm    \\LION    BDC2   Sat Jun 05 04:47:14am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lls us the last 3 time this guy logged on remot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drill down on one of these ti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Verbose Mode - Time Frame Usage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TLas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r -u brianm &gt;&gt; results.t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 minute remote logon from brian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ord Number: 7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uterName: AC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entID: 528   -   Successful 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gon:  Wed Apr 21 02:07:30am 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goff:  Wed Apr 21 02:42:30am 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tails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entName:     brian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entID:       (0x0,0x20F9E8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entMachine:  \\L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entDomain:   AC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gonType:      Remo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gives us a 35 minute window during first crack to look for file activ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 - Saving verbose mode output to a fi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Regarding Searching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things to 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want to look at very first access times to see first possible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look at recent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prepared, you may find n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P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to run as few apps as possible while performing an exam. Command line tools leave a smaller footprint - less chance of altering 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Matching File Access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ing for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le out normal system files - I use HandleEx.exe from SysInternals for learning about system 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a command prompt,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 /t:c to find file creation tim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 /t:w to find last file write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 /t:a to find last file access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run “dir /t:a &gt; search.txt” and load that file into an editor with a search fe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Searching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luck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find a file created during that first suspected lo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find th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le accessed during the last lo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*Note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n't use Explorer to check file access ti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destroys the real file access time by setting it to the current time you look at it. That isn't what you want and will kill your clu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File Search Results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luck, A file shows creation for tha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 /t:c c:\winnt\system32 &gt;&gt; results.t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6/13/96  06:38p               152,848 winmsd.ex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6/13/96  06:38p                 13,046 winnt.hl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4/21/99  02:38a                 32,768 winoldapp.ex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--VERY SU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6/13/96  06:38p                   2,880 winsock.d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4/30/97  11:00p                 92,944 WINSPOOL.DR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4/30/97  11:00p                 15,120 WINSRPC.D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4/30/97  11:00p               166,672 WINSRV.D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6/03/96  06:38p                 19,728 winstrm.d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*There is no legit file called winoldapp.exe - but it does not look out of pl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*There IS a legit file called winoldap.mod - very simil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*Compare  -  winoldapp.exe == 32k    winoldap.mod = 2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File Examination Using GNU Strings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/strings winoldapp.exe &gt;&gt; results.t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Use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ShareEn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UseAd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UserEn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tSidSubAutho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upAccountNam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*Strings reveals very suspicious api cal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*Looks like a backdo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*note - a hacker can hide his machine from browsers - See App 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ckers machine is now basically invisible so it's likely you won't notice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n connect calls are made to this hidden machine from this d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Real Life Results Problematic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may find that the main file you are interested in was modified AFTER the suspected user time fra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the access time fits, but the modified time is wrong This is probably not enough evidence and means you will have to keep digg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things are just totally overwrit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Race is on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pass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e a  toolkit from burned CD of known goo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in looking for dam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85800" y="5029200"/>
            <a:ext cx="7848720" cy="685800"/>
            <a:chOff x="685800" y="5029200"/>
            <a:chExt cx="7848720" cy="685800"/>
          </a:xfrm>
        </p:grpSpPr>
        <p:sp>
          <p:nvSpPr>
            <p:cNvPr id="144" name=""/>
            <p:cNvSpPr/>
            <p:nvPr/>
          </p:nvSpPr>
          <p:spPr>
            <a:xfrm>
              <a:off x="838440" y="5143320"/>
              <a:ext cx="760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How do we find out who was on the system and when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5800" y="5029200"/>
              <a:ext cx="7848720" cy="68580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6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Remote WinWord Launch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list of file accesses during a user time fr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6/22/99  12:17a             3,772,176 MSO97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6/22/99  12:17a             5,324,560 WINWORD.EX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6/22/99  12:17a             1,158,416 WWINTL32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sing from list is msidl.dll - MS GUI H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means a DCOM laun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Word is operating in the background /w no visible interface - Can only view this from Task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Trouble Finding DCOM Permissions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, WinWord is not listed in DCOMCNF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listed in OleView, Very few admins know about Ol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under Classes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 Manager perms/users are not altered, looking there not help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OleView.exe #1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54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OleView.exe #2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543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OleView Permissions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, runs under perms of current GUI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“nbtstat -a” to probe when Admin is logged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unch WinWord with full Admin priv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Guest backdoor w/ Admin priv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Word has large install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install Word/Office on a secure file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App_Dll Key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KLM/Software/microsoft/windows nt/currentversion/windows/appinit_d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ads the dll listed here into every GUI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pty by Defa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ver seen this used by a legit ap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*The kicker is that this value is saved in kernel mode, and requested by user32 whenever a gui is launched. This means that the value can be erased while running to help hide it, but it's effect stays in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ANT - this is *NOT* in MS sec guidelines, nor in any NT sec book guidelines I have se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How to use it for a Compromise?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dll that can capture keystrok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er dlls name in AppInit_DLLs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ll will now capture keystrokes and write to a file and/or send 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1752480"/>
            <a:ext cx="8077320" cy="1526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Signature of an Attack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unknown name of a dll listed in this key is sign of bad n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unknown dlls being listed in your running process spaces could have been injected from this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1676520"/>
            <a:ext cx="8077320" cy="1522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How to protect against it?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aware of the keys exist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 that’s its default value is emp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 that the value can be erased, but it’s effect remains in place until a reb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t the key value and perform che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File Integrity Check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boot with empty key value to remove it’s effe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1676520"/>
            <a:ext cx="8077320" cy="1522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NT Repair Directory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ch this gu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ed very rarely by backup or manually by repair 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 access might very well mean it was read by L0pht Cr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some kind of trigger to watch for access time changes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*Key here is that crackers don’t want alter it, they just want to read it - you most likely are not looking for a Trojan or altered binary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Initial Assertion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reading  my lo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ts of log activity. Can't verify for certain a time/date/logon r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odd server names - COULD BE FORGED TH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'm not running IIS on this box - Cross that o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have sniffed a passwo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mon Problem - Strong PDC, Weak local admin pass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dermines the whole g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Signatures of L0phtcrack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uccessful logon without failures appea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ore recent file access time on c:\winnt\repair\sam.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, long running process on a 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How to protect against i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auditing on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notes of when you access this regi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File Integrity Checkers in a ‘lite’ mo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, Don’t go num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Actively Hunt L0phtCrack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e scripts to read this access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e scripts to read remote drives a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e scripts to search remote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Listing Remote Processe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lservers, npList and Gr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servers | nplist | grep l0phtcrack &gt; alert.t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of use and time running - very valu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NPList Dump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s information for \\KRAS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me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d    Mem     User Time   Kernel Time   Elapsed 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dle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     16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0:00:00.000  69:52:39.745    0:00:00.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stem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      200       0:00:00.000   0:06:08.519    0:00:00.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LOGON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4    28         0:00:00.330   0:00:01.992   71:19:38.76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RVICES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0    1472     0:00:01.111   0:00:03.915   71:19:37.58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SASS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3    880      0:00:02.824   0:00:06.058   71:19:36.34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OOLSS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8    200      0 :00:00.781   0:00:01.091   71:19:27.65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0phtcrack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134   2544   0:04:28.486   0:00:01.912   0:06:04.45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gedt32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30    620     0:00:01.762   0:00:04.125    2:54:35.19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SPAINT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6    604     0:00:02.713   0:00:10.404    2:53:06.86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UTLOOK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154   5460   0:00:05.948   0:00:08.402    1:31:17.83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PISP32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1   3184    0:00:00.460   0:00:00.941    1:31:17.64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MD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9   1236    0:00:00.010   0:00:00.040    0:02:58.3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Time to Run is a Clue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0phtCrack usually takes a least a few h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is total CPU time, not idl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value is much higher than normal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t applications have high idle time, low actual CPU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NT Process Time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:\Work\eattime\Debug&gt;nplist l0phtcr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me         Pid Pri Thd  Hnd    Mem     User Time   Kernel Time Elapsed 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0phtcrack  3134   8   2   32   2544   0:04:28.486   0:00:01.912   0:06:04.45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0phtcrack  3134   8   2   32   2588   0:07:55.503   0:00:02.223   0:09:35.42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:\Work\eattime\Debug&gt;nplist msde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me         Pid Pri Thd  Hnd    Mem     User Time   Kernel Time  Elapsed 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SDEV       11772   8   5   68   1308   0:00:01.862   0:00:03.324 4:28:11.84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SDEV       3589   8   8  255   5476    0:02:51.656   0:01:00.016 2:59:41.44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545004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Important to notice kernel/User time relation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Advanced Remote Listing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nplist /csv and/or gr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plist \\hostx &gt; process.t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 into Excel spread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culate and report all process running longer than X h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Arial"/>
              </a:rPr>
              <a:t>Why Full Scale Integrity Checking Can Fail</a:t>
            </a:r>
            <a:endParaRPr b="0" lang="en-US" sz="4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too intru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aking it’s hash, it kills what you need to see - access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on - You can’t blindly apply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Gina Replacement Key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KEY_LOCAL_MACHINE\Software\Microsoft\Windows NT\CurrentVersion\Winlo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aware that a new value here allows a dll to intercept your log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technique is called DLL Pass-Throu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ls are simply intercepted then forwarded to the real c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Race Is On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pass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e a  toolkit from burned CD of known goo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in looking for dam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Gina API Call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 WINAPI WlxLoggedOutSAS (PVOID pWlxContext,   DWORD dwSasTyp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LUID pAuthenticationId,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   PSID pLogonSid,    PDWORD pdwOptions,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ANDLE phToken,  PWLX_MPR_NOTIFY_INFO pMprNotifyInfo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VOID *pProfil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t = GWlxLoggedOutSAS (pWlxContext,  dwSasType, pAuthenticationId, pLogonSid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dwOptions,  phToken,  pMprNotifyInfo,  pProfile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MprNotifyInfo-&gt;pszUserNam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MprNotifyInfo-&gt;pszPassword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 insert code here to do whatev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File = CreateFile 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riteFile 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oseHandle (hFile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urn iRe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Hooks - In General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oks allow the loading of dll's into 'every' GUI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eans a keyboard/clipboard intercepto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 - pgp puts pgp60hk.dll into every process space. You can see this with handleex.ex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Hooks - Outlook Process Space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5334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GP hook injected into MS Outl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hook1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7619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Hooks - WinWord Process Space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GP Hook Injected into MS WinWord process 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hook2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7619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Hooks - Cmd Process Space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720" y="5486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ice - No injection, cmd has no msg pump for hook to atta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ewer system dll’s loaded - can be useful when nee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hook3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619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Finally - WinObj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tool allows viewing of driver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 all the known, registered driv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WinObj Base Sho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pic>
        <p:nvPicPr>
          <p:cNvPr id="353" name="winobjBASE" descr=""/>
          <p:cNvPicPr/>
          <p:nvPr/>
        </p:nvPicPr>
        <p:blipFill>
          <a:blip r:embed="rId1"/>
          <a:stretch/>
        </p:blipFill>
        <p:spPr>
          <a:xfrm>
            <a:off x="838080" y="1685880"/>
            <a:ext cx="762012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Unknown Driver Sho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pic>
        <p:nvPicPr>
          <p:cNvPr id="355" name="trojandriver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7724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Rogue Driver Conclusion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driver is able to sniff memory and mail out a smtp frame to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driver eludes file chec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driver eludes casual system che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 is cau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Removing Executing File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ad device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rebooting necess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ify it is loa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ete driver’s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Z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file locked ms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My Initial Proces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the 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 the task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 the loaded dll's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through the 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the 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yth #4,650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les are locked and can't be deleted because NT is using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rivers live in non-paged memory - Exe’s don’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y can have there backing file deleted becasue most drivers are not swapped and so do not make use of virtual memory in the same manner that normal exe’s 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les are locked in place because NT uses it's virtual paging mechanism to back the file. Usually, only part of the exe is loaded, with a bunch of reserved, but not committed memory available to the process. NT locks the resources it needs so it can swap in and out what it want'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Oh, Great Network Guru:)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-3 number crunching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AT and AT - if you don't know how to use these, YOU L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KS tools, (grep, strings) powerful command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cls and xcacls - put these tools in scripts and run them, run them, run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Mon, RegMon, WinObj from sysinte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DON’T OWN A SCA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Tools Part II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l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urity is an information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win if we can better analyz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T Resource kit - Learn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veState, and Perl debug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valuable than expense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lining and audi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and USE your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Base Lining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I know what my baseline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File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familiar with file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Reg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ch and record ac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WinOb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orize basic NT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t this info into Exc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Advances in NT Driver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 now  gives DDK away for free on the 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 writers were a small, closed group bef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  available to larger aud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uditing Facts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ans download audit tools over 2 to 1 vs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guy response 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eat scanner, rocks, smok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hick 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have a date calculation error at line 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Summing It All Up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n evidence of an intr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n files accessed within a user timefr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some techniques/tips to assist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n how to examine different aspect of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n you that Greg is a really good gu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his Talk for detailed file tra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nouncing New NTO Tools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servers - netbios names dum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plist  - network process dum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dited - now audits the 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cketX - Raw packet creator for 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tolog /backup /cle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scan - dumps SP level of all NT h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versions of NTLast being pos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PacketX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w Native NT Packet Wri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s whatever you want to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ges Ethernet/TCP/IP H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idates FW 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PacketX Sho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pic>
        <p:nvPicPr>
          <p:cNvPr id="385" name="packetwriter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6581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My Second E-Mail Message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L, Your new password is “keepgregou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PacketX Capture Sho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pic>
        <p:nvPicPr>
          <p:cNvPr id="387" name="packcapture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84872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In Closing - Possible Part III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is talk interested you and would like to know more…..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 SANS and maybe they will sponsor Part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 Object Tra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 Hooking Mechani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Moment of Silence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. Richards Stevens - RI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Resources and Reference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ind.exe for finding file access times without changing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dited.exe for generating a list of all files being audited on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 way to check your wo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th tools are freeware and can be downloaded fr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ww.ntobjective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ndleEx.exe from SysInternals, again, freeware 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ww.sysinternal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ings from Cygnus Bash - freeware unix tools for NT *VERY USEFUL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ww.cygwin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dendum - Facts, Tip details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P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ess times can be faked - API’s can alter all 3 time stam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P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ce Event Viewer shortcut on desktop - Set Even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Viewer to default to security lo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P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n’t use Explorer to look up access times, i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corrupts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Arial"/>
              </a:rPr>
              <a:t>Appendix A - Hiding from Browsing</a:t>
            </a:r>
            <a:endParaRPr b="0" lang="en-US" sz="36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the registry editor set the key HKEY_LOCAL_MACHINE\System\CurrentControlSet\Services\LanManServer\Para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 value Hidden from 0 to 1. You should then reboo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can also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et config server /hidden:y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can still connect to the computer, but it is not displayed on the brows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NTO_logo_sm6" descr=""/>
          <p:cNvPicPr/>
          <p:nvPr/>
        </p:nvPicPr>
        <p:blipFill>
          <a:blip r:embed="rId1"/>
          <a:stretch/>
        </p:blipFill>
        <p:spPr>
          <a:xfrm>
            <a:off x="0" y="5867280"/>
            <a:ext cx="838080" cy="6858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838080" y="6172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9 © NT OBJECTives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Additional Information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l0pht.com - l0phtckrack.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sysinternals.com - pslist.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tripwiresecurity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pedestalsoftwar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webspan.net/~tas/pwdump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0880" y="1752480"/>
            <a:ext cx="8077320" cy="1526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Trojan Possibility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know he did not sniff this time, nothing went out over the wire because I haven't yet accessed any domain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be a Troj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4T04:44:13Z</dcterms:created>
  <dc:creator>JD Glaser</dc:creator>
  <dc:description/>
  <dc:language>en-US</dc:language>
  <cp:lastModifiedBy>JDG</cp:lastModifiedBy>
  <dcterms:modified xsi:type="dcterms:W3CDTF">1999-10-05T03:42:50Z</dcterms:modified>
  <cp:revision>399</cp:revision>
  <dc:subject/>
  <dc:title>Intrusion Auditing with NTLast </dc:title>
</cp:coreProperties>
</file>