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360" y="1676160"/>
            <a:ext cx="7770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360" y="1676160"/>
            <a:ext cx="7770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custGeom>
            <a:avLst/>
            <a:gdLst>
              <a:gd name="textAreaLeft" fmla="*/ 360 w 438120"/>
              <a:gd name="textAreaRight" fmla="*/ 437760 w 438120"/>
              <a:gd name="textAreaTop" fmla="*/ 360 h 474480"/>
              <a:gd name="textAreaBottom" fmla="*/ 474120 h 474480"/>
            </a:gdLst>
            <a:ahLst/>
            <a:rect l="textAreaLeft" t="textAreaTop" r="textAreaRight" b="textAreaBottom"/>
            <a:pathLst>
              <a:path w="21600" h="23391">
                <a:moveTo>
                  <a:pt x="78" y="0"/>
                </a:moveTo>
                <a:arcTo wR="78" hR="78" stAng="16200000" swAng="-5400000"/>
                <a:lnTo>
                  <a:pt x="0" y="23313"/>
                </a:lnTo>
                <a:arcTo wR="78" hR="78" stAng="10800000" swAng="-5400000"/>
                <a:lnTo>
                  <a:pt x="21522" y="23391"/>
                </a:lnTo>
                <a:arcTo wR="78" hR="78" stAng="5400000" swAng="-5400000"/>
                <a:lnTo>
                  <a:pt x="21600" y="78"/>
                </a:lnTo>
                <a:arcTo wR="78" hR="78" stAng="0" swAng="-5400000"/>
                <a:close/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custGeom>
            <a:avLst/>
            <a:gdLst>
              <a:gd name="textAreaLeft" fmla="*/ 360 w 328320"/>
              <a:gd name="textAreaRight" fmla="*/ 327960 w 328320"/>
              <a:gd name="textAreaTop" fmla="*/ 360 h 474480"/>
              <a:gd name="textAreaBottom" fmla="*/ 474120 h 474480"/>
            </a:gdLst>
            <a:ahLst/>
            <a:rect l="textAreaLeft" t="textAreaTop" r="textAreaRight" b="textAreaBottom"/>
            <a:pathLst>
              <a:path w="21600" h="31205">
                <a:moveTo>
                  <a:pt x="104" y="0"/>
                </a:moveTo>
                <a:arcTo wR="104" hR="104" stAng="16200000" swAng="-5400000"/>
                <a:lnTo>
                  <a:pt x="0" y="31101"/>
                </a:lnTo>
                <a:arcTo wR="104" hR="104" stAng="10800000" swAng="-5400000"/>
                <a:lnTo>
                  <a:pt x="21496" y="31205"/>
                </a:lnTo>
                <a:arcTo wR="104" hR="104" stAng="5400000" swAng="-5400000"/>
                <a:lnTo>
                  <a:pt x="21600" y="104"/>
                </a:lnTo>
                <a:arcTo wR="104" hR="104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custGeom>
            <a:avLst/>
            <a:gdLst>
              <a:gd name="textAreaLeft" fmla="*/ 360 w 422280"/>
              <a:gd name="textAreaRight" fmla="*/ 421920 w 422280"/>
              <a:gd name="textAreaTop" fmla="*/ 360 h 474480"/>
              <a:gd name="textAreaBottom" fmla="*/ 474120 h 474480"/>
            </a:gdLst>
            <a:ahLst/>
            <a:rect l="textAreaLeft" t="textAreaTop" r="textAreaRight" b="textAreaBottom"/>
            <a:pathLst>
              <a:path w="21600" h="24268">
                <a:moveTo>
                  <a:pt x="81" y="0"/>
                </a:moveTo>
                <a:arcTo wR="81" hR="81" stAng="16200000" swAng="-5400000"/>
                <a:lnTo>
                  <a:pt x="0" y="24187"/>
                </a:lnTo>
                <a:arcTo wR="81" hR="81" stAng="10800000" swAng="-5400000"/>
                <a:lnTo>
                  <a:pt x="21519" y="24268"/>
                </a:lnTo>
                <a:arcTo wR="81" hR="81" stAng="5400000" swAng="-5400000"/>
                <a:lnTo>
                  <a:pt x="21600" y="81"/>
                </a:lnTo>
                <a:arcTo wR="81" hR="81" stAng="0" swAng="-5400000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custGeom>
            <a:avLst/>
            <a:gdLst>
              <a:gd name="textAreaLeft" fmla="*/ 360 w 368280"/>
              <a:gd name="textAreaRight" fmla="*/ 367920 w 368280"/>
              <a:gd name="textAreaTop" fmla="*/ 360 h 474480"/>
              <a:gd name="textAreaBottom" fmla="*/ 474120 h 474480"/>
            </a:gdLst>
            <a:ahLst/>
            <a:rect l="textAreaLeft" t="textAreaTop" r="textAreaRight" b="textAreaBottom"/>
            <a:pathLst>
              <a:path w="21600" h="27823">
                <a:moveTo>
                  <a:pt x="93" y="0"/>
                </a:moveTo>
                <a:arcTo wR="93" hR="93" stAng="16200000" swAng="-5400000"/>
                <a:lnTo>
                  <a:pt x="0" y="27730"/>
                </a:lnTo>
                <a:arcTo wR="93" hR="93" stAng="10800000" swAng="-5400000"/>
                <a:lnTo>
                  <a:pt x="21507" y="27823"/>
                </a:lnTo>
                <a:arcTo wR="93" hR="93" stAng="5400000" swAng="-5400000"/>
                <a:lnTo>
                  <a:pt x="21600" y="93"/>
                </a:lnTo>
                <a:arcTo wR="93" hR="9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oundRect">
            <a:avLst>
              <a:gd name="adj" fmla="val 375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custGeom>
            <a:avLst/>
            <a:gdLst>
              <a:gd name="textAreaLeft" fmla="*/ 360 w 31680"/>
              <a:gd name="textAreaRight" fmla="*/ 31320 w 31680"/>
              <a:gd name="textAreaTop" fmla="*/ 360 h 1052280"/>
              <a:gd name="textAreaBottom" fmla="*/ 1051920 h 1052280"/>
            </a:gdLst>
            <a:ahLst/>
            <a:rect l="textAreaLeft" t="textAreaTop" r="textAreaRight" b="textAreaBottom"/>
            <a:pathLst>
              <a:path w="21600" h="709645">
                <a:moveTo>
                  <a:pt x="1080" y="0"/>
                </a:moveTo>
                <a:arcTo wR="1080" hR="1080" stAng="16200000" swAng="-5400000"/>
                <a:lnTo>
                  <a:pt x="0" y="708565"/>
                </a:lnTo>
                <a:arcTo wR="1080" hR="1080" stAng="10800000" swAng="-5400000"/>
                <a:lnTo>
                  <a:pt x="20520" y="709645"/>
                </a:lnTo>
                <a:arcTo wR="1080" hR="1080" stAng="5400000" swAng="-5400000"/>
                <a:lnTo>
                  <a:pt x="21600" y="1080"/>
                </a:lnTo>
                <a:arcTo wR="1080" hR="1080" stAng="0" swAng="-5400000"/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6840" cy="1051200"/>
            <a:chOff x="0" y="2438280"/>
            <a:chExt cx="9006840" cy="1051200"/>
          </a:xfrm>
        </p:grpSpPr>
        <p:grpSp>
          <p:nvGrpSpPr>
            <p:cNvPr id="48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9" name=""/>
              <p:cNvSpPr/>
              <p:nvPr/>
            </p:nvSpPr>
            <p:spPr>
              <a:xfrm>
                <a:off x="290160" y="2545920"/>
                <a:ext cx="436680" cy="472320"/>
              </a:xfrm>
              <a:custGeom>
                <a:avLst/>
                <a:gdLst>
                  <a:gd name="textAreaLeft" fmla="*/ 360 w 436680"/>
                  <a:gd name="textAreaRight" fmla="*/ 436320 w 436680"/>
                  <a:gd name="textAreaTop" fmla="*/ 360 h 472320"/>
                  <a:gd name="textAreaBottom" fmla="*/ 471960 h 472320"/>
                </a:gdLst>
                <a:ahLst/>
                <a:rect l="textAreaLeft" t="textAreaTop" r="textAreaRight" b="textAreaBottom"/>
                <a:pathLst>
                  <a:path w="21600" h="23361">
                    <a:moveTo>
                      <a:pt x="78" y="0"/>
                    </a:moveTo>
                    <a:arcTo wR="78" hR="78" stAng="16200000" swAng="-5400000"/>
                    <a:lnTo>
                      <a:pt x="0" y="23283"/>
                    </a:lnTo>
                    <a:arcTo wR="78" hR="78" stAng="10800000" swAng="-5400000"/>
                    <a:lnTo>
                      <a:pt x="21522" y="23361"/>
                    </a:lnTo>
                    <a:arcTo wR="78" hR="78" stAng="5400000" swAng="-5400000"/>
                    <a:lnTo>
                      <a:pt x="21600" y="78"/>
                    </a:lnTo>
                    <a:arcTo wR="78" hR="78" stAng="0" swAng="-5400000"/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1400" y="2545920"/>
                <a:ext cx="327600" cy="472320"/>
              </a:xfrm>
              <a:custGeom>
                <a:avLst/>
                <a:gdLst>
                  <a:gd name="textAreaLeft" fmla="*/ 360 w 327600"/>
                  <a:gd name="textAreaRight" fmla="*/ 327240 w 327600"/>
                  <a:gd name="textAreaTop" fmla="*/ 360 h 472320"/>
                  <a:gd name="textAreaBottom" fmla="*/ 471960 h 472320"/>
                </a:gdLst>
                <a:ahLst/>
                <a:rect l="textAreaLeft" t="textAreaTop" r="textAreaRight" b="textAreaBottom"/>
                <a:pathLst>
                  <a:path w="21600" h="31132">
                    <a:moveTo>
                      <a:pt x="104" y="0"/>
                    </a:moveTo>
                    <a:arcTo wR="104" hR="104" stAng="16200000" swAng="-5400000"/>
                    <a:lnTo>
                      <a:pt x="0" y="31028"/>
                    </a:lnTo>
                    <a:arcTo wR="104" hR="104" stAng="10800000" swAng="-5400000"/>
                    <a:lnTo>
                      <a:pt x="21496" y="31132"/>
                    </a:lnTo>
                    <a:arcTo wR="104" hR="104" stAng="5400000" swAng="-5400000"/>
                    <a:lnTo>
                      <a:pt x="21600" y="104"/>
                    </a:lnTo>
                    <a:arcTo wR="104" hR="10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000" y="2967480"/>
              <a:ext cx="735840" cy="472320"/>
              <a:chOff x="414000" y="2967480"/>
              <a:chExt cx="735840" cy="472320"/>
            </a:xfrm>
          </p:grpSpPr>
          <p:sp>
            <p:nvSpPr>
              <p:cNvPr id="52" name=""/>
              <p:cNvSpPr/>
              <p:nvPr/>
            </p:nvSpPr>
            <p:spPr>
              <a:xfrm>
                <a:off x="414000" y="2967480"/>
                <a:ext cx="421200" cy="472320"/>
              </a:xfrm>
              <a:custGeom>
                <a:avLst/>
                <a:gdLst>
                  <a:gd name="textAreaLeft" fmla="*/ 360 w 421200"/>
                  <a:gd name="textAreaRight" fmla="*/ 420840 w 421200"/>
                  <a:gd name="textAreaTop" fmla="*/ 360 h 472320"/>
                  <a:gd name="textAreaBottom" fmla="*/ 471960 h 472320"/>
                </a:gdLst>
                <a:ahLst/>
                <a:rect l="textAreaLeft" t="textAreaTop" r="textAreaRight" b="textAreaBottom"/>
                <a:pathLst>
                  <a:path w="21600" h="24219">
                    <a:moveTo>
                      <a:pt x="81" y="0"/>
                    </a:moveTo>
                    <a:arcTo wR="81" hR="81" stAng="16200000" swAng="-5400000"/>
                    <a:lnTo>
                      <a:pt x="0" y="24138"/>
                    </a:lnTo>
                    <a:arcTo wR="81" hR="81" stAng="10800000" swAng="-5400000"/>
                    <a:lnTo>
                      <a:pt x="21519" y="24219"/>
                    </a:lnTo>
                    <a:arcTo wR="81" hR="81" stAng="5400000" swAng="-5400000"/>
                    <a:lnTo>
                      <a:pt x="21600" y="81"/>
                    </a:lnTo>
                    <a:arcTo wR="81" hR="81" stAng="0" swAng="-5400000"/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1200" y="2967480"/>
                <a:ext cx="368640" cy="472320"/>
              </a:xfrm>
              <a:custGeom>
                <a:avLst/>
                <a:gdLst>
                  <a:gd name="textAreaLeft" fmla="*/ 360 w 368640"/>
                  <a:gd name="textAreaRight" fmla="*/ 368280 w 368640"/>
                  <a:gd name="textAreaTop" fmla="*/ 360 h 472320"/>
                  <a:gd name="textAreaBottom" fmla="*/ 471960 h 472320"/>
                </a:gdLst>
                <a:ahLst/>
                <a:rect l="textAreaLeft" t="textAreaTop" r="textAreaRight" b="textAreaBottom"/>
                <a:pathLst>
                  <a:path w="21600" h="27669">
                    <a:moveTo>
                      <a:pt x="93" y="0"/>
                    </a:moveTo>
                    <a:arcTo wR="93" hR="93" stAng="16200000" swAng="-5400000"/>
                    <a:lnTo>
                      <a:pt x="0" y="27576"/>
                    </a:lnTo>
                    <a:arcTo wR="93" hR="93" stAng="10800000" swAng="-5400000"/>
                    <a:lnTo>
                      <a:pt x="21507" y="27669"/>
                    </a:lnTo>
                    <a:arcTo wR="93" hR="93" stAng="5400000" swAng="-5400000"/>
                    <a:lnTo>
                      <a:pt x="21600" y="93"/>
                    </a:lnTo>
                    <a:arcTo wR="93" hR="9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4760"/>
              <a:ext cx="560160" cy="421560"/>
            </a:xfrm>
            <a:prstGeom prst="roundRect">
              <a:avLst>
                <a:gd name="adj" fmla="val 375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4680" y="2438280"/>
              <a:ext cx="31320" cy="1051200"/>
            </a:xfrm>
            <a:custGeom>
              <a:avLst/>
              <a:gdLst>
                <a:gd name="textAreaLeft" fmla="*/ 360 w 31320"/>
                <a:gd name="textAreaRight" fmla="*/ 30960 w 31320"/>
                <a:gd name="textAreaTop" fmla="*/ 360 h 1051200"/>
                <a:gd name="textAreaBottom" fmla="*/ 1050840 h 1051200"/>
              </a:gdLst>
              <a:ahLst/>
              <a:rect l="textAreaLeft" t="textAreaTop" r="textAreaRight" b="textAreaBottom"/>
              <a:pathLst>
                <a:path w="21600" h="716973">
                  <a:moveTo>
                    <a:pt x="1080" y="0"/>
                  </a:moveTo>
                  <a:arcTo wR="1080" hR="1080" stAng="16200000" swAng="-5400000"/>
                  <a:lnTo>
                    <a:pt x="0" y="715893"/>
                  </a:lnTo>
                  <a:arcTo wR="1080" hR="1080" stAng="10800000" swAng="-5400000"/>
                  <a:lnTo>
                    <a:pt x="20520" y="716973"/>
                  </a:lnTo>
                  <a:arcTo wR="1080" hR="1080" stAng="5400000" swAng="-5400000"/>
                  <a:lnTo>
                    <a:pt x="21600" y="1080"/>
                  </a:lnTo>
                  <a:arcTo wR="1080" hR="1080" stAng="0" swAng="-5400000"/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15360" y="3261960"/>
              <a:ext cx="8691480" cy="55440"/>
            </a:xfrm>
            <a:prstGeom prst="roundRect">
              <a:avLst>
                <a:gd name="adj" fmla="val 294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cs.uiowa.edu/~rjhansen/HP2005.pdf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mailto:rjhansen@cs.uiowa.edu" TargetMode="External"/><Relationship Id="rId2" Type="http://schemas.openxmlformats.org/officeDocument/2006/relationships/hyperlink" Target="mailto:mlpatter@cs.uiowa.edu" TargetMode="External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pping Injection Attacks with Computational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ert J. Han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redith L. Patter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University of Io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t’s Talk Problem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where you have user input, you have input validation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jection attacks are a specific kind of input validation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ant to allow users to change the flavor of a command string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not the functionality of a command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s anyone tried to solve i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zer (1983) considered the problem intractable, which killed all future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ating user inputs is AI-complete.  Get perfect input validation and you get strong artificial intellig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validation is a huge problem space.  Most of it is in the land of Mordor, and you don’t want to go there, Mr. Fro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ere are islands of tractability, and we’ve discovered some of them a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lly co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imple Injection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QL: “SELECT RIGHTS FROM ACCESS_TABLE WHERE PASSWORD = ‘$foo’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great if $foo is “squeamish ossifrag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so great if $foo is “’ OR ‘1’ = ‘1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differentiate injection attacks from legitimate input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 II: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, “The Math Geekery We All Hated In Our First Semester of Graduate Schoo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ntax versus Seman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: the structure and order of a sent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: the meaning of a sent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gitimate inputs only change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4160" indent="-269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$foo is “squeamish ossifrage”, the resulting SQL statement has a different meaning than if it was “Hi, Black Hat!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s change syntax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4160" indent="-269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injection attacks work by adding additional elements to a control sta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4160" indent="-269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necessarily result in syntactic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utational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syntax and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encode math problems as str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use regexp-like devices to compute on those str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the limits of comp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CT says a problem can’t be solved, you won’t get a computer to solv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let’s look at regexps from a CT perspec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egexps handle complex syntax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why are we doing validation with th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te State Autom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simple model of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 a string of letters, and based on each letter, move to a new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t the end of the input you’re in an “accepting” state, the string is a good in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, it’s b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has no memory, no recursion, no anything: all it knows is its current state and the next symbol it’s looking 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A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A are equivalent to regexps; anything a regexp can do, an FSA can 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0840" indent="-330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everything an FSA can’t do, a regexp can’t 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0840" indent="-330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l regexps are a little different; we’ll cover them in a bit.  But that said, on with the sh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A III: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language is made up of “a” and “b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63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’ll never see anything that’s not in our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63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Real World, this would be ASCII or Unico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7160" indent="-3171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accept “(ab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63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“ab”, “abab”, “ababab”…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7160" indent="-3171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our next slide, states A and C acce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A IV: The State Dia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209680"/>
            <a:ext cx="281952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our input ends when we’re in States A or C, our FSA matches the regexp (ab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 Anything else, and we’re out of lu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 that this works for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ength sequence of as and bs, despite our limited number of states.  At some point we’ll recycle a st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38080" y="2209680"/>
          <a:ext cx="4719600" cy="39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4719600" cy="39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 I: What’s the Proble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Short Answer: Lots!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tion of FS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egular expressions can be described by finite-state automata (FS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SA have (drumroll, please) a limited number of sta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large enough input, you’re going to revisit a st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st like if you’re in a theater with 100 seats, if there are 101 tickets sold, a couple of people are going to get real friend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Limits of FS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’s imagine we have an FSA which will recognize 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hat is, any number of as followed by the same number of bs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his FSA exist?  Will it be reli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it can’t exist or isn’t reliable, where does that leave u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nswer: in the land of Mordor, where Mr. Frodo doesn’t want to go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umping Lem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we have a long enough input, we have to repeat (“pump”) some portion of our F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4160" indent="-269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a consequence of our FSA being… well… F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turns out to be its downfa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ft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petitions of “a”, we’re in a state where we can recogn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petitions of “b”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can we revisit that same state aft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petitions of “a”, and go on to recogn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petitions of “b”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ops, We Did It Again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’ve just found a language which looks like we should be able to recognize it with a regex, but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 regex can ever recogniz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y, at lea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’ll have a lot of false positives and false negativ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’ll be forced to choose between convenience and accurac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nds strangely like where we currently stand, doesn’t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if regexs aren’t strong enough to recognize that language, what 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ext Free Gramma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ext free gramma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next most powerful kind of compu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8920" indent="-2754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or those who care, Turing Machines come after this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0840" indent="-330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FG is basically a regexp which is allowed to recurse.  Kind of like a Perl regexp, in other wor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0840" indent="-330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l doesn’t have regexps.  It has CF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FGs generate strings of letters according to rules.  Let’s come up with a rule that will recognize 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Rule R say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 aR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generate no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where “R” means “another repetition of Rule R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this get us anyth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t’s S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empty) = 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 = 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b, 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abb = 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b, 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b, 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Jove, I think we’ve got i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recognize this languag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rivation Tr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1981080"/>
            <a:ext cx="5486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le R comes in two varieties: one which gene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ee outputs (an “a”, then another applicatio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le R, then a “b”), and one which gene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hing at all.  If we want to generate the 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abb”, this is the derivation tree we’d use. 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nterclockwise from the upper left, reading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ymbols in gray arrows which lead now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we wanted to make sure “aabb” was in ou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nguage—validation instead of generation—we’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st see if we could generate “aabb” from our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rules. 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m a math standpoint, generating strings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alidating strings. They’re the same th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38080" y="2057400"/>
          <a:ext cx="1846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1846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Y E S 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’ve found something stronger than a regular expres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4440" indent="-334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we needed user inputs that matched 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we literally couldn’t do it with a regular expres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4440" indent="-334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ed a context-free grammar inste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4440" indent="-334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ed us out of Mord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4440" indent="-334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eads us to our first axiom of input valid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nimally Strong Mechan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put validation needs to be done with a mechanism strong enough to recognize th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4440" indent="-334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QL, for instance, is a context-free language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4440" indent="-334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 as are HTTP and HTML, command shells, programming language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4440" indent="-334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we mustn’t validate them using regexp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’s the Proble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input garb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rbage in, garbage out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ackers input garbage, to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rbage in, exploits o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don’t have good tools to keep garbag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V techniques are largely ineffecti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eb developers don’t bother—is this because of laziness or because there are no good tool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 II: 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 and SQL are both context-free languages, and need context-free grammars to validate th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’ve seen regular expressions cannot validate context-free langua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the hacker word-of-mouth tells people to use regular expressions to validate user inputs to SQL and Web serv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are living in s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ommend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validate naked us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6120" indent="-278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ways validate it in the context of how it’ll be used—as a complete SQL statement, as a complete HTTP request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4440" indent="-334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right tool for the jo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6120" indent="-278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is a context-free language, so validate using a context-free gramm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6120" indent="-278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aker tools won’t do the jo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4440" indent="-334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get stronger than you have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6120" indent="-278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inputs will be attacked.  Lo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6120" indent="-278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you get compromised, you want to give your attacker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eak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ource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6120" indent="-278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 don’t use stronger mechanisms than you really have 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ommendations, Part Tw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arn basic computational the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t Fleck’s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Formal Models of Compu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ichael Sipser’s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Introduction to the Theory of Compu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ad our academic paper: “Guns and Butter: Towards Formal Axioms of Input Validation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hould be in your media pack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vailable on the Web at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cs.uiowa.edu/~rjhansen/HP2005.pd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op thinking of validation in terms of convenience or 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art thinking of validation in terms of convenienc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rom Theory into Pract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jection Has Never Felt So G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jection Attacks: A Refresh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ving input validation is AI-complete, because of the semantics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antics means “meaning”.  If you could make a program that could recognize the meaning of things and flag bad stuff, you’d have a program that could teach you philosophy, ethics and moral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injection ha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yntact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mponent as well a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mant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is a special case of input validation, and it is solv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ure Dial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agine this SQL statemen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RIGHTS FROM ACCESS_T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PASSWORD=“b14ckh47”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at’s valid SQL.  An injection attack would make it look differ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let’s make a dialect of SQL, where our statement is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ind of statement we can mak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ure Dialects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SELECT RIGHTS FROM ACCESS_TABLE WHERE PASSWORD=“” OR “1”=“1” would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o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a valid statement in our dialect.  We’ve added syntactic and semantic elem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detect the extra syntactic elements using a CF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ure Dialects I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5530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ure Dialects I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600200" y="1981080"/>
            <a:ext cx="6361200" cy="4527720"/>
            <a:chOff x="1600200" y="1981080"/>
            <a:chExt cx="6361200" cy="452772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1600200" y="1981080"/>
              <a:ext cx="6361200" cy="452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 txBox="1"/>
            <p:nvPr/>
          </p:nvSpPr>
          <p:spPr>
            <a:xfrm>
              <a:off x="1600200" y="1981080"/>
              <a:ext cx="6361200" cy="4527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1280" indent="-341280">
                <a:spcBef>
                  <a:spcPts val="799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  <a:tab algn="l" pos="105156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ure Dialects 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828800" y="2017800"/>
            <a:ext cx="594360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tate of the 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wisdom: “use regexps to validate user inpu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e positives: some legitimate inputs will be incorrectly flagged as bad, leading to user fru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e negatives: some attacks will be incorrectly flagged as safe, leading to explo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ch is better?  To err on the side of convenience, or err on the side of securit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t’s… Obnoxious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the differences between the two are obvio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FG will be able to easily spot the difference between the tw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need is a known-good parse to compare the user input again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user input is valid in our dialect, we know the input hasn’t been injec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bie PHP: a simpl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4440" indent="-334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ou've just read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PHP for Dummies,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d you want to create your first DB-driven website: a lookup interface for your book collection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$sql = “SELECT title FROM book WHER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ub_year = ” . $form_input . “;”;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g_query($database, $sql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4440" indent="-334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imple, clean ... and vulnerable to input lik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005; DROP TABLE book; --”</a:t>
            </a:r>
            <a:br>
              <a:rPr sz="24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(Goodbye, hours and hours of work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bie PHP, continu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kay, test to make sure it's a numbe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!is_numeric($form_input))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at. But can you do this for more complicated inpu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can safely increase complexity, you can safely increase utility and simplicity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word: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bie PHP: The Fail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7160" indent="-3171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vailing Wisdo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638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an HTML form where each category (pub_year, author, title...) has its ow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638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cape all those fields individ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638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exp the whole query to make sure comments aren't introduced – but wait! '--' is valid inside a string, and with only regexps, we can't be sure that '--' is properly enclosed! OH NO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7160" indent="-3171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must be a better way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Can This Be Automat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ou know what you want your input to look like. We call this an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exemplar string.</a:t>
            </a:r>
            <a:br>
              <a:rPr sz="2800"/>
            </a:b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LECT rights FROM access_table WHER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r = 'Bob' AND password = 'fnord'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ers will have different semantics, in specific ca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Usernames, passwords, search term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lag variable portions of the exemplar string with curly brac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LECT rights FROM access_table WHER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r = '{Bob}' AND password = '{fnord}'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Can This Be Automat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4440" indent="-3344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rse the exemplar into XML.  Look through the tree for the lowest XML tag which fully encloses the bracketed string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4440" indent="-3344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s lowest tag gets tagged as ‘mutable’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4440" indent="-3344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rse the test string into XML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4440" indent="-3344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ff the two XML files, skipping over any tag marked “mutable”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j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ll this counter-injection techniqu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ejection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th as a pun on “injection” and because we hope to make script kiddies very dejec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jection can be applied to any SQL database for which we can get a languag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6600" indent="-2667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acle, DB2, SQL Server, SQLite, MySQL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6600" indent="-2667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PostgreSQL is already done (libdejector-p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 How Do I Use I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varies according to the langu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4440" indent="-3344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dejector-pg is a C library with SWIG wrapp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6120" indent="-278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ython, Perl, Java, .NET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6120" indent="-278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WIG supports it, we can build 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4440" indent="-3344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let’s look at a hypothetical example.  The real Python bindings might look a little different, but they’ll be clo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bdejector-pg-pyth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mplar = Dejector(“SELECT titl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book {WHERE year = 2005}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mplar.validate(userInpu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tch BadSQL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dScriptKiddieAway(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t’s Simple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’s designed to 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reate an exemplar, you validate user input against it, you’re d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properly-written exemplar, you have significant resistance to SQL injection attacks and significantly reduced false positives and nega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ory, it’s 100% accurate.  But anything that works 100% in theory never works 100% in practice, so let’s not get too carried aw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’s a tool.  It’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o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ol.  Please us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onsense Of It 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ther way, we’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hoosing to make err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we choosing to make erro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does conventional wisdom encourage a one-or-the-other approach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n’t we try to find techniques which reduce the error rat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Not To 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4440" indent="-334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't bracket the entire damn str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4440" indent="-334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oid crossing rule boundaries.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{foo FROM bar} WHERE {username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IN special_user.nam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6120" indent="-278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r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{foo} FROM {bar}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4440" indent="-334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't bracket only a piece of a termi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6120" indent="-278280">
              <a:lnSpc>
                <a:spcPct val="88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 WHERE year = 200{5}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ll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2001, 2002, 2003, 2004...it'll find any integ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cen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s, we’re looking into software pat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y evil?  Yes.  Do we have student debts to pay off?  Lo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-approved projects shouldn’t have a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rietary projects will need to talk to 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bdejector-pg is released under GNU GP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’re interested in dejection, please talk to u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 Hansen and/or Meredith Patters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artment of Computer Sci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University of Iow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owa City, Iowa 52240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rjhansen@cs.uiowa.edu</a:t>
            </a:r>
            <a:br>
              <a:rPr sz="2800"/>
            </a:br>
            <a:r>
              <a:rPr b="0" lang="en-US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mlpatter@cs.uiowa.edu</a:t>
            </a:r>
            <a:br>
              <a:rPr sz="2800"/>
            </a:b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4440" indent="-334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VN repository is up a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vn://acm.uiowa.edu/svn/libdejec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Questions and Answ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al Wor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careful when making [data validators] more restrictive, though, because a [validator] that rejects one percent of valid input is far more annoying than one that lets through ten percent of invalid data.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uke Welling and Laura Thoms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HP and MySQL Web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s Publishing,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ts of Books Are That B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lling and Thomson weren’t unusu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ur survey of commonly available Web development books, only two discussed validation in any deta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at could get through technical review process, that means either the review was braindead or our best-practices 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many of us have been led to believe we can have convenience or security, but not both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venience AND Secur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nienc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secure, otherwise we’re condemned to 0-day and script kidd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convenient, otherwise nobody will use secure syst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e positives and negatives a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tegorically unaccep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we must seek more accurate technolog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belief that we can only have one or the other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ripp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eb secur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to change the way we think.  We have to demand convenienc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cur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that’s what we’re offering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’ve discovered a way to apply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ka “the math weenie stuff we thought we’d never use”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iving us near-100% protection against injection attacks,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ar-100% protection against false alar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(When used properly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won’t solve all security problems and it won’t protect you from faulty implement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t’s a start, and it’s a lot better than everything else we have so f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bert J. Hansen</cp:lastModifiedBy>
  <dcterms:modified xsi:type="dcterms:W3CDTF">2005-07-28T15:04:59Z</dcterms:modified>
  <cp:revision>6</cp:revision>
  <dc:subject/>
  <dc:title>Stopping Injection Attacks with Computational Theory</dc:title>
</cp:coreProperties>
</file>