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2CF-468C-465C-B7F4-77D08122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4EA-7241-4520-ACCA-8BF04AAD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847-5BC7-4D9D-B131-8292B9A7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ADE-4AFC-45DB-9956-96028A13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350-A45B-462B-8FF0-4BAF4072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63F-72FE-4197-9D64-CF1CB724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70A-EAC3-4795-B97B-46C6E530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31B-3AD4-4CAF-A0FC-A8341C13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F07-43BB-44FE-BDFD-2617FD13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6324-D357-4A35-B216-1C2085E1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064-360F-4C01-B23D-6272D4ED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411-F706-497E-83B5-5A11DE25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7764-65E5-4293-8979-CFDB9AF9C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743200"/>
            <a:ext cx="7010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ack In The Box Security Conference 6th October 20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895480" y="4572000"/>
            <a:ext cx="3181320" cy="639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Antivirus detection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295280"/>
            <a:ext cx="8305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detec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 sc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ic de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istic and behavior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metric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2670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detec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 of Artificial Intelligence (Neural networ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ssembling virus/worm code (Oops... reverse engineering¿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Antivirus detection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95280"/>
            <a:ext cx="8305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ture 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rch for a unique string or sequence of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vily rely on virus pattern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ble to identify the type of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oming slow in the future as the amount of viruses/worm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6200"/>
            <a:ext cx="81532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 de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ble to obtain decrypted content without performing crypt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ed problem using e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morphic virus must decrypt its body immediately when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bypassed by preventing linear decryption or desig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morphic virus to analyze its environment (E.g. keystroke trigg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Antivirus detection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95280"/>
            <a:ext cx="84582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tic and behavior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racterist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 main entry point integrity in MZ/PE file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spicious jumps in program (E.g.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struction pointed by 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spicious file vers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spicious fil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up key existence in Windows registry/shortcut files in star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havior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ing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odules are load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to get a rough idea on that 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face ex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ance problem occurs when check other linked modules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s to detect 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LL injection phenomen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time of process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Antivirus detection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295280"/>
            <a:ext cx="8305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metric detection (a.k.a. ‘Shape heuristic’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mante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s for alteration made to a fi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971800"/>
            <a:ext cx="792468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of Artificial Intelligence – Neural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s very complex algorithm, hard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ance issue - quantum computer might solve the problem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648320"/>
            <a:ext cx="845820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ssembling virus/wor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suitable for dealing with viruses/worms written in high level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t another performance issu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Stealth virus design –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000"/>
            </a:b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Breeding concept (Metamorphic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523880"/>
            <a:ext cx="83055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to breeding concept (Complete metamorph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new challenge for the antivirus 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st since the DOS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ly capable to prevent itself from antivirus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roduce (compile) next generation from source instead of du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s the compiler on target infection to reproduce a new b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applied using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ript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emely hard to detect if implemented as Win32 w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Stealth virus design –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000"/>
            </a:b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Breeding concept (Metamorphic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4724280"/>
            <a:ext cx="86104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etamorphic viruses/worms get into its 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ilt-in Compiler Class in .NET Framework’s Microsoft.CSharp 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*nix users install GCC for compiling apps from source tarb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447920"/>
            <a:ext cx="830556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s used in breeding concept viruses/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use stored procedures and junk statements (source c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y encryption/decryption for high level languag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ndomize ‘junk code’ inse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tate symmetric key, stored procedures and stored junk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it the large collection of Win32 APIs (reuse, reuse and misuse :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rch for the existence of compiler on target 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loys either obfuscation technique or anti-emulation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Stealth virus design –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000"/>
            </a:b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Breeding concept (Metamorphic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905120"/>
            <a:ext cx="175284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4956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above metamorphism illustration, it clearly shows that there is no similar information in the inherited virus/worm. Thus, signature-based detection does not work under such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2971440" y="2133720"/>
            <a:ext cx="609480" cy="9144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5638680" y="2133720"/>
            <a:ext cx="609840" cy="9144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429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eneration of metamorphic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342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eneration of metamorphic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eneration of metamorphic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13716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llustration of metamorphism in computer viruses/w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2057400"/>
            <a:ext cx="30456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590920"/>
            <a:ext cx="30492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2209680"/>
            <a:ext cx="304560" cy="38124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2743200"/>
            <a:ext cx="30492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2133720"/>
            <a:ext cx="30492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2819520"/>
            <a:ext cx="30456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2895480"/>
            <a:ext cx="304920" cy="38124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981080"/>
            <a:ext cx="304920" cy="38124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2971800"/>
            <a:ext cx="30456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2362320"/>
            <a:ext cx="30492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1905120"/>
            <a:ext cx="175248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1905120"/>
            <a:ext cx="175284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33920" y="1905120"/>
            <a:ext cx="457200" cy="38088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905120"/>
            <a:ext cx="457200" cy="38088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1981080"/>
            <a:ext cx="457200" cy="38124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2971800"/>
            <a:ext cx="457200" cy="38088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2895480"/>
            <a:ext cx="457200" cy="38124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743200"/>
            <a:ext cx="457200" cy="38088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2362320"/>
            <a:ext cx="457200" cy="38088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286000"/>
            <a:ext cx="457200" cy="38088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2514600"/>
            <a:ext cx="457200" cy="38088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2209680"/>
            <a:ext cx="457200" cy="38124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251460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213372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266688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297180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304812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05740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0120" y="304812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43800" y="251460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205740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213372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42670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¿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Stealth virus design –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000"/>
            </a:b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Breeding concept (Metamorphic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3048120"/>
            <a:ext cx="380880" cy="2286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057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1600200"/>
            <a:ext cx="1066680" cy="1905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743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2286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514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914400" y="3276720"/>
            <a:ext cx="6858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4267080"/>
            <a:ext cx="26668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Original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 code (encryp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nk code (encryp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D5 key (raw hex. 32 by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4191120"/>
            <a:ext cx="251460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05120" y="3581280"/>
            <a:ext cx="4952880" cy="457200"/>
          </a:xfrm>
          <a:custGeom>
            <a:avLst/>
            <a:gdLst>
              <a:gd name="textAreaLeft" fmla="*/ 1107000 w 4952880"/>
              <a:gd name="textAreaRight" fmla="*/ 3350520 w 49528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56" hR="21600" stAng="10800000" swAng="5400000"/>
                <a:lnTo>
                  <a:pt x="9784" y="0"/>
                </a:lnTo>
                <a:arcTo wR="9656" hR="21600" stAng="-5400000" swAng="2888987"/>
                <a:lnTo>
                  <a:pt x="20908" y="13571"/>
                </a:lnTo>
                <a:lnTo>
                  <a:pt x="19376" y="21600"/>
                </a:lnTo>
                <a:lnTo>
                  <a:pt x="16460" y="13571"/>
                </a:lnTo>
                <a:lnTo>
                  <a:pt x="18620" y="13571"/>
                </a:lnTo>
                <a:arcTo wR="9656" hR="21600" stAng="-2511013" swAng="-2878801"/>
                <a:lnTo>
                  <a:pt x="9720" y="0"/>
                </a:lnTo>
                <a:arcTo wR="9656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656" hR="21600" stAng="10800000" swAng="5400000"/>
                <a:lnTo>
                  <a:pt x="9656" y="0"/>
                </a:lnTo>
                <a:arcTo wR="9656" hR="21600" stAng="-5400000" swAng="10186"/>
                <a:lnTo>
                  <a:pt x="9720" y="0"/>
                </a:lnTo>
                <a:arcTo wR="9656" hR="21600" stAng="-5410186" swAng="-5389814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15238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domized ‘junk code’ inser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3124080"/>
            <a:ext cx="380880" cy="2286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1676520"/>
            <a:ext cx="1066680" cy="1904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72200" y="2819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2362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828800"/>
            <a:ext cx="19051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1828800"/>
            <a:ext cx="18288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67080" y="1828800"/>
            <a:ext cx="19051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2286000"/>
            <a:ext cx="236232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tamorphs thru regeneration of new program source code and recompi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Concept code make use of Compiler Class in .NET Framework runtime libra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4267080"/>
            <a:ext cx="40384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ew generation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xture of source code + junk code (encryp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nk code sequence randomized (encryp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D5 key changed (raw hex. 32 by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267080"/>
            <a:ext cx="411480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553080" y="3429000"/>
            <a:ext cx="9144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1523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5867280"/>
            <a:ext cx="64008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o 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generation will filter the junk code and reinsert again randomly with randomized sequence of encrypted junk code and new MD5 ke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1337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gram lo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15200" y="19051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xture of program logic with junk i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9810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1981080"/>
            <a:ext cx="457200" cy="838440"/>
          </a:xfrm>
          <a:custGeom>
            <a:avLst/>
            <a:gdLst>
              <a:gd name="textAreaLeft" fmla="*/ 0 w 457200"/>
              <a:gd name="textAreaRight" fmla="*/ 164880 w 4572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22096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24382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Stealth virus design –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000"/>
            </a:b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Breeding concept (Metamorphic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447920"/>
            <a:ext cx="83059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 for the entire file is different in each infection (E.g. MD5/SHA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length also can be different in each 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d to detect even when running in AV emulator (generic decryp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 code is different from each breed when reverse engine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MZ/PE header when implemented as worm makes it truly st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4267080"/>
            <a:ext cx="8153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ires a compiler on target 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per implementation with high level languages can simplify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extracting a virus signature from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Advanced ‘malware’ design</a:t>
            </a:r>
            <a:br>
              <a:rPr sz="5000"/>
            </a:b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(Current  and futur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371600"/>
            <a:ext cx="87631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== “malware”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ronym for malicious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unch DDoS attacks, spam, steal information (E.g. serial key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2971800"/>
            <a:ext cx="853452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desig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opt ‘social engineering’ practices to bypass non-IT professionals’ def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ke fil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ofed source address of an 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te with non-malware or provide fake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ical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morphic, metamorphic, monolithic cod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specific software vulnerability on victim’s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titive self-killing and respa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LL in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95280"/>
            <a:ext cx="8001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es and 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tion of polymorphic viruses/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virus detec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lth virus design - Breeding concept (Metamorph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‘malware’ design (Current and f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viruses/worms remov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ending against ‘malwar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approach to design antivir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Presentation Overview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Advanced ‘malware’ design</a:t>
            </a:r>
            <a:br>
              <a:rPr sz="5000"/>
            </a:b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(Current  and futur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44792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desig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passing Windows Firewall in Windows XP Service Pac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HKEY_LOCAL_MACHINE\SYSTEM\ControlSet001\Services\SharedAccess\Parameters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FirewallPolicy\StandardProfile\AuthorizedApplications\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 infected computers with dev. tools to provide compil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lace program file but providing original service and reuse the same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g. Apache HTTP server on Win32 platform (apache.ex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riginal web server may be able to accept the command such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GET /index.html HTTP/1.1”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// Request for 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a ‘malware’ can be designed to accept both command such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GET /index.html HTTP/1.1”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// Request for 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LIST C:\Documents and Settings\Administrator\My Documents\*.*”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// Malicious 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us, trojan horse can work without opening extra ports to avoid suspic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Advanced ‘malware’ design</a:t>
            </a:r>
            <a:br>
              <a:rPr sz="5000"/>
            </a:b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(Current  and futur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1447920"/>
            <a:ext cx="83818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design techniques (continued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use information of infected computer (esp. Windows registry ke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- HKEY_CURRENT_USER\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- HKEY_LOCAL_MACHINE\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6654960" cy="32986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600200" y="6095880"/>
            <a:ext cx="541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reenshot of Windows registry 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Common viruses/worms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removal metho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447920"/>
            <a:ext cx="78483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 remov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y the entry point to point to the program’s real main 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p the virus code from the infected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ever, some virus overwrite/destroy fil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3124080"/>
            <a:ext cx="830556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m remov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sure the firewall is 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task manager or command prompt to list the runn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suspicious processes (E.g. high CPU utilization, unknown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e for the file of running process to examine fur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ll the process and quarantine it manually if suspic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 Start Menu’s Startup folder and Windows registry for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/patch softwar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Common viruses/worms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removal metho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4267440" cy="4419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3962160" cy="4419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838080" y="60199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ing ‘tasklist’ 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1430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napshots for proces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Common viruses/worms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removal metho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580240" cy="50198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04920" y="609588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amine for suspicious string value in all startup 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Defending against ‘malware’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1219320"/>
            <a:ext cx="670536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c security guidelines to prevent from troubles :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irewall to provide a shield for loc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sure the validity and integrity of received e-m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not open or execute unknown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ways check for software updates or p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AV software’s virus pattern frequ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web browsers with better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ways run the system with ‘just sufficient’ privi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ways backup important information to other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 confidential files with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st any online information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New approach to design antivirus syste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371600"/>
            <a:ext cx="83059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ing honeypot concept in antivirus - that’s sweet :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re viruses to infect the honeytokens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ivirus system holds a master copy of honey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 automated analysis on changes being made (file foren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s antivirus to extract virus signatures automatically (although not 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the need of virus patter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42670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 of this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effective against viruses, excluding worms and trojan ho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viruses may be coded to infect certain file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New approach to design antivirus syste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1371600"/>
            <a:ext cx="7391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e signatur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 for the clean files rather than the infected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-side signature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es not require virus patter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antine unknown files for maximum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038480"/>
            <a:ext cx="7696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 of this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ires internet connection to scan ‘newly created/modified’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ires the server-side to have all signature for clean files 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New approach to design antivirus syste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3429000"/>
            <a:ext cx="16002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ivirus program (client-s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71800" y="373392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3429000"/>
            <a:ext cx="16002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ML web service (server-s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5105520"/>
            <a:ext cx="16002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ivirus program (client-s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1752480"/>
            <a:ext cx="16002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ivirus program (client-s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895480" y="3733560"/>
            <a:ext cx="365760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1981080"/>
            <a:ext cx="3581280" cy="17528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20235600">
            <a:off x="3657960" y="45716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rify file integrity (MD5/SHA1) using R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32004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rify file integrity (MD5/SHA1) using R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579800">
            <a:off x="3580560" y="22093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rify file integrity (MD5/SHA1) using R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00800" y="3886200"/>
            <a:ext cx="152280" cy="1600200"/>
          </a:xfrm>
          <a:prstGeom prst="bevel">
            <a:avLst>
              <a:gd name="adj" fmla="val 12500"/>
            </a:avLst>
          </a:prstGeom>
          <a:solidFill>
            <a:srgbClr val="f051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00800" y="1981080"/>
            <a:ext cx="152280" cy="1600200"/>
          </a:xfrm>
          <a:prstGeom prst="bevel">
            <a:avLst>
              <a:gd name="adj" fmla="val 12500"/>
            </a:avLst>
          </a:prstGeom>
          <a:solidFill>
            <a:srgbClr val="f051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3809880"/>
            <a:ext cx="152280" cy="1295640"/>
          </a:xfrm>
          <a:prstGeom prst="bevel">
            <a:avLst>
              <a:gd name="adj" fmla="val 12500"/>
            </a:avLst>
          </a:prstGeom>
          <a:solidFill>
            <a:srgbClr val="f051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2133720"/>
            <a:ext cx="152280" cy="1523880"/>
          </a:xfrm>
          <a:prstGeom prst="bevel">
            <a:avLst>
              <a:gd name="adj" fmla="val 12500"/>
            </a:avLst>
          </a:prstGeom>
          <a:solidFill>
            <a:srgbClr val="f051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5410080"/>
            <a:ext cx="152280" cy="1143000"/>
          </a:xfrm>
          <a:prstGeom prst="bevel">
            <a:avLst>
              <a:gd name="adj" fmla="val 12500"/>
            </a:avLst>
          </a:prstGeom>
          <a:solidFill>
            <a:srgbClr val="f051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1219320"/>
            <a:ext cx="152280" cy="685800"/>
          </a:xfrm>
          <a:prstGeom prst="bevel">
            <a:avLst>
              <a:gd name="adj" fmla="val 12500"/>
            </a:avLst>
          </a:prstGeom>
          <a:solidFill>
            <a:srgbClr val="f051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81080" y="2666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29400" y="2438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42670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594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29400" y="5029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1295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20021400">
            <a:off x="3794400" y="4358880"/>
            <a:ext cx="11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P Port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544400">
            <a:off x="3793320" y="2647440"/>
            <a:ext cx="11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P Port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33920" y="37339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P Port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5943600"/>
            <a:ext cx="33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ic diagram of inverse signature approach antivirus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Summa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2952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design is more like an art of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ware’ and computer security are inter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ing security requires cooperation from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Viruses and worm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066680"/>
            <a:ext cx="85345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viruses (File infectors / executable infe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s MBR, boot sector and files (E.g. *.exe, *.com, *.ocx, *.dll, *.d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y on human activity to execute and perform 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ly designed to destroy data or corrup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y 16-bit DOS MZ binary header / Win32 PE binary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 of infected file changes (E.g. MD5/SHA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ected file length can increase, decrease or even the SA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 threat in Win32 environment, unlike older days in 16-bit 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Contact Inform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600200"/>
            <a:ext cx="82296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act me via e-mail :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s_teo2002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shadowx@vx.farm] mv  /home/yourself  /usr/tmp_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--------------------- Beginning of /usr/tmp_address 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eo Sze Si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3+0 BSc. (Hons) in Software Engineering (Semester 6 stu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chool Of Computing and Information Technology (SOC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TI College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---------------------------------- End of file 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00200" y="49528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nk you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Viruses and worm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19320"/>
            <a:ext cx="77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ous ways for a computer virus to infect a f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2362320"/>
            <a:ext cx="457200" cy="152280"/>
          </a:xfrm>
          <a:prstGeom prst="cube">
            <a:avLst>
              <a:gd name="adj" fmla="val 25000"/>
            </a:avLst>
          </a:prstGeom>
          <a:solidFill>
            <a:srgbClr val="43e6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2362320"/>
            <a:ext cx="533520" cy="1522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2514600"/>
            <a:ext cx="457200" cy="1522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S MZ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62920" y="23623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S Real-mode Stub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2362320"/>
            <a:ext cx="380880" cy="152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2971800"/>
            <a:ext cx="457200" cy="152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2895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362320"/>
            <a:ext cx="457200" cy="152280"/>
          </a:xfrm>
          <a:prstGeom prst="cube">
            <a:avLst>
              <a:gd name="adj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3429000"/>
            <a:ext cx="457200" cy="152280"/>
          </a:xfrm>
          <a:prstGeom prst="cube">
            <a:avLst>
              <a:gd name="adj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3352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cti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2362320"/>
            <a:ext cx="2819520" cy="152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3886200"/>
            <a:ext cx="457200" cy="152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3733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ctions (1, 2, … 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2362320"/>
            <a:ext cx="457200" cy="152280"/>
          </a:xfrm>
          <a:prstGeom prst="cube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4343400"/>
            <a:ext cx="457200" cy="152280"/>
          </a:xfrm>
          <a:prstGeom prst="cube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42670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rus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3352680"/>
            <a:ext cx="457200" cy="152640"/>
          </a:xfrm>
          <a:prstGeom prst="cube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343400"/>
            <a:ext cx="457200" cy="152280"/>
          </a:xfrm>
          <a:prstGeom prst="cube">
            <a:avLst>
              <a:gd name="adj" fmla="val 25000"/>
            </a:avLst>
          </a:prstGeom>
          <a:solidFill>
            <a:srgbClr val="43e6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4343400"/>
            <a:ext cx="533520" cy="1522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343400"/>
            <a:ext cx="380880" cy="152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4343400"/>
            <a:ext cx="457200" cy="152280"/>
          </a:xfrm>
          <a:prstGeom prst="cube">
            <a:avLst>
              <a:gd name="adj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343400"/>
            <a:ext cx="1447920" cy="152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4343400"/>
            <a:ext cx="457200" cy="152280"/>
          </a:xfrm>
          <a:prstGeom prst="cube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4343400"/>
            <a:ext cx="1523880" cy="152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1981080"/>
            <a:ext cx="37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) Append virus code to end of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9718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b) Insert virus code in beginning of th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352680"/>
            <a:ext cx="457200" cy="152640"/>
          </a:xfrm>
          <a:prstGeom prst="cube">
            <a:avLst>
              <a:gd name="adj" fmla="val 25000"/>
            </a:avLst>
          </a:prstGeom>
          <a:solidFill>
            <a:srgbClr val="43e6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3352680"/>
            <a:ext cx="533520" cy="1526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3352680"/>
            <a:ext cx="381240" cy="1526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3352680"/>
            <a:ext cx="457200" cy="152640"/>
          </a:xfrm>
          <a:prstGeom prst="cube">
            <a:avLst>
              <a:gd name="adj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3352680"/>
            <a:ext cx="2819520" cy="1526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3962520"/>
            <a:ext cx="37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c) Insert virus code in middle of th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1981080"/>
            <a:ext cx="1905120" cy="259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4876920"/>
            <a:ext cx="77724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thods used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odify the main entry-point to point to the virus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verwrite / insert jump instruction to the location pointed by the entry-point field in MZ/PE head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PO (Entry-Point Obscuring) – Replace reference API calls to point to virus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2057400"/>
            <a:ext cx="457200" cy="152280"/>
          </a:xfrm>
          <a:prstGeom prst="cube">
            <a:avLst>
              <a:gd name="adj" fmla="val 25000"/>
            </a:avLst>
          </a:prstGeom>
          <a:solidFill>
            <a:srgbClr val="43e6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Viruses and worm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066680"/>
            <a:ext cx="815328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worms (Stand-alone executables/scrip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es not target on other files, execute itself as an ow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target ‘already infected’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ility to spread automatically without user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ly designed to launch DDoS attack or send out spam m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it software vulnerability (esp. buffer overrun / buffer overf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 can be constant or ever changing (depending on desig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ected file length can increase, decrease or even the SA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key(s) to Windows registry to start itself during boo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threat in Win32 environment, mostly designed for Win32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Viruses and worm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676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common ways how worms spread across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3886200"/>
            <a:ext cx="167652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ed 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819520" y="2895480"/>
            <a:ext cx="335268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28954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ffer overflow exploit (E.g. DCOM RPC &amp; LS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4191120"/>
            <a:ext cx="3429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8862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m mails with virus att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49528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site with malicious ActiveX or Javascript (E.g. cross-site scripting atta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4343400"/>
            <a:ext cx="335268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2590920"/>
            <a:ext cx="167652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ctim compu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3886200"/>
            <a:ext cx="167616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ctim compu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5181480"/>
            <a:ext cx="167652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ctim compu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Evolution of polymorphic viruses/worm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295280"/>
            <a:ext cx="83059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tation Engine (M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ility to generate symmetric key used for encryption/de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ility to generate junk code (E.g. NOP instruction in Assem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ility to generate different decry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886200"/>
            <a:ext cx="8153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adop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s UPX (Ultimate Packer for eXecutables)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y constant values of its own such as string or sequence of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, remove or replace earlier appended junk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Evolution of polymorphic viruses/worm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905120"/>
            <a:ext cx="175284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4956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above polymorphism illustration, it clearly shows that partial information of the virus/worm retains. Thus, the retained information - virus shape (constant body in encrypted form) can be used as signature for de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2971440" y="2133720"/>
            <a:ext cx="609480" cy="9144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638680" y="2133720"/>
            <a:ext cx="609840" cy="9144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3429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eneration of polymorphic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342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eneration of polymorphic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eneration of polymorphic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13716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llustration of polymorphism in computer viruses/w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2057400"/>
            <a:ext cx="30456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590920"/>
            <a:ext cx="30492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209680"/>
            <a:ext cx="304560" cy="38124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743200"/>
            <a:ext cx="30492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2133720"/>
            <a:ext cx="30492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819520"/>
            <a:ext cx="30456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895480"/>
            <a:ext cx="304920" cy="38124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1981080"/>
            <a:ext cx="304920" cy="38124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971800"/>
            <a:ext cx="30456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2362320"/>
            <a:ext cx="30492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1905120"/>
            <a:ext cx="175248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2057400"/>
            <a:ext cx="304920" cy="38088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2590920"/>
            <a:ext cx="304920" cy="38088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209680"/>
            <a:ext cx="304920" cy="38124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743200"/>
            <a:ext cx="304920" cy="38088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2133720"/>
            <a:ext cx="304560" cy="38088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2819520"/>
            <a:ext cx="304920" cy="38088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895480"/>
            <a:ext cx="304920" cy="38124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1981080"/>
            <a:ext cx="304920" cy="38124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2971800"/>
            <a:ext cx="304920" cy="38088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2362320"/>
            <a:ext cx="304920" cy="38088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1905120"/>
            <a:ext cx="175284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2057400"/>
            <a:ext cx="304560" cy="38088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2590920"/>
            <a:ext cx="304920" cy="38088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2209680"/>
            <a:ext cx="304560" cy="38124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2743200"/>
            <a:ext cx="304920" cy="38088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96080" y="2133720"/>
            <a:ext cx="304920" cy="38088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2819520"/>
            <a:ext cx="304560" cy="38088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2895480"/>
            <a:ext cx="304920" cy="38124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1981080"/>
            <a:ext cx="304920" cy="38124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2971800"/>
            <a:ext cx="304560" cy="38088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2362320"/>
            <a:ext cx="304920" cy="38088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495680"/>
            <a:ext cx="761760" cy="1295640"/>
          </a:xfrm>
          <a:prstGeom prst="lightningBol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Evolution of polymorphic viruses/worm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295280"/>
            <a:ext cx="8305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 for the entire file is different in each infection (E.g. MD5/SHA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length also can be different in each 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es not affect the algorithm of the viru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y hard to detect without using generic de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886200"/>
            <a:ext cx="8153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ion of program logic/routine/function code same with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rypted constant data may get detected during de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stence of decryption routine increases heuristic engine suspi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06:09:53Z</dcterms:created>
  <dc:creator>ShadowX</dc:creator>
  <dc:description/>
  <dc:language>en-US</dc:language>
  <cp:lastModifiedBy>ShadowX</cp:lastModifiedBy>
  <dcterms:modified xsi:type="dcterms:W3CDTF">2004-10-04T04:29:56Z</dcterms:modified>
  <cp:revision>299</cp:revision>
  <dc:subject/>
  <dc:title>Slide 1</dc:title>
</cp:coreProperties>
</file>