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687A-8A73-44C8-BF6F-905A6156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29C-F427-41E3-BE8E-C73A5DE6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9A4-E3D5-431D-997A-109C6134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C16-A777-4F98-9303-249EDE84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06F1-4565-438C-9A2F-1EAFFF66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F2FB-AB78-4F87-BDFD-CD868634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19A2-83F4-4102-AF0C-D95B49C7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F38-626A-4B70-95F8-72E5BE5A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D03-8CA5-456A-99F3-1FF4C129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721-A4E3-4DBC-B36D-B751C571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6EB-4EA2-4F1E-8D15-FD4CDD29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1BC8-EDB8-48F7-8EF6-00AB5389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C1D8-7DA8-4139-8B6D-338097827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nymity Services and the Law: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afely Provide Anonymity Technology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 Sassa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moo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bbi@shm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1028520" cy="9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the same as N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 in the right to anony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 personal use of the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sh to demonstrate technical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ory into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Mixmaster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Fre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s/Milit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e anonymous “tip hotlin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nonymity for investigation or espio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sh to undermine foreign government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Safeweb and 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: Commercial vs. 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anonymity services tend to be w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anonymity services tend to be more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passive concer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financi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e person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wart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communication is seco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ommercial Anonymity is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to s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collection (no anonymous cash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operat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a large anonymity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 co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to bu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rendering (no anonymous cash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of anonymity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ility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network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Str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k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from the casual att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m avo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online for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the operator or the la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from ISP sno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from government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in the case of server compromise (hacker-proof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the mathematic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web mail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L anonymous prox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I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mail r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-net remail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Anonymit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for free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anonymity has important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solutions are l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ly accessible non-profit anonymity services are the main source of strong anony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digital cash would change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rief History of Rem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-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by David Chaum written in 19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d a method of anonymous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anonymity – no universally trusted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mplimented by Ch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n.penet.f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nym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software created by Karl Kleinp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ed by Julf Helsingius in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in the early 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ly weak anonymity, but 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500,000 register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l victim to a “legal attack” by the Church of Scie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enet.fi/press-englis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pherpunk rem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d ideas from Cha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work by Eric Hughes, Hal Fin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9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by Raif Levien, Matt Ghio, and others (statistics generation, laten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PGP for encryption and n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analysis still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 Remail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 nymservers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master rem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mentation of Chaum’s Mix-net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begun in 1993 by Lance Cottr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s multiple shortcomings in the Type I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ewritten in 1998 by Ulf Mö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the most widely used remailer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as “Type II Remail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ro Knowledge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services on top of the ZKS Freedom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anonymity, ease of use, and return addresses (persistant pseudony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enterprise that was too cos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future as open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chanics of Strong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Chaum’s mix-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ayered encyption ch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stinguishable message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reordering at each 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address reply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x-net impl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s available for Windows, Macintosh,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s available for Unix and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hardware 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 network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 server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anonymit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eld the identity of the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al other identifying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sociate users’ actions with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conceal that those actions occ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ity !=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ixmaster P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00280" y="1633680"/>
            <a:ext cx="39434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ey of a mixed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n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ding/spl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 operator can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n outside observer would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a large anonymity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ws in Mix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ing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forward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 fai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return address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ng and Handling Ab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b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lers are ill-suited for email sp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atency, easy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-relays are much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net spam is still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mailers block binary trans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ity is decreased by sending large, multi-packe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is a poor medium for file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w-away shell/ftp accounts, irc, and p2p systems are more popular for wa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ed hara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d abusive messages at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s from one or more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net fl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ping ab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remailer block-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mailer Abuse Bla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aracrypt.com/remailerabus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need to know the ID of ab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being a target of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m and flood detection tools for rem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man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Anonymity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 remop can’t reveal abusers’ True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 last hop is usually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ai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yption keys aren’t useful in last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hained hop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-TLS forward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remops don’t keep 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 space / resource d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user privacy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useful for abuse invest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ications in Dealing with Abuse Compl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to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to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to I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to legal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mail-to-news gate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ide a Mixmaster Remai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lk-through of a l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ler program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ler packet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ng with Law Enfor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LEO’s want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at you are operating a rema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more overt the anonymity, the easier this is will 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to help as much as you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abuse counter-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: you do not need to talk to LEOs! Know your Miranda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treated as a suspect, it is likely due to technical ignorance on the LEO’s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resorts: turn to EFF, ACLU, E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im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sponding website is the first thing an investigator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information on remailers and their benefit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friendly with local law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e a crimin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 became a rem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aw enforcement inqu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Secre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 would do differently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al status of rem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mendmen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Frontiers Georgia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’s RIP B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US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remailers might be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vert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s not automatically flagged as a user of anonymity 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often has more cred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attract suspic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spicuous web prox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web email accounts through prox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k-a-Boo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 “September 1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remailers ope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opinion of anony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lers: Too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public libra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be Impro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programmers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minion (Type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 enhancem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standar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 client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web app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law makers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legality of anonymity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protections for remailer 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 revolutionaries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take if remailers are banned in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s of operating remailers anonym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s of maintaining anonymity without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the US bans remail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 public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more rem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more stable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more remail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testimon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ublic opinion to our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benefit of remailers mus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 Sassa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@shmo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t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s known to be anonym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bility is more often questio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izer.com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ervices are a mixture of covert and overt anonym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Operates Public Anonymity Servi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rcial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provide anonymity services for pro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n interest in protecting their customers ident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do not offer strong anonymity – payment hurd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Anonymiz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Zero Knowledge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ities and N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 services “For the good of the communit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theoretical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y have a specific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able to avoid the issue of anonymous pay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MIT’s nym.alias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Voice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01:30:24Z</dcterms:created>
  <dc:creator>L. Sassaman</dc:creator>
  <dc:description/>
  <dc:language>en-US</dc:language>
  <cp:lastModifiedBy>L. Sassaman</cp:lastModifiedBy>
  <dcterms:modified xsi:type="dcterms:W3CDTF">2002-07-11T21:30:51Z</dcterms:modified>
  <cp:revision>19</cp:revision>
  <dc:subject/>
  <dc:title>Forensic Dead-Ends: Tracing Anonymous Internet Abuse</dc:title>
</cp:coreProperties>
</file>