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F9A2-53A5-4581-BA1A-D60C2C10B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S boot block activates TP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PM hashes BIOS, stores hash in TP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S boot block loads B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S hashes Option ROM’s, stores hash in TPM. Option ROM’s l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S hashes DRM boot loader, stores hash in TP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S loads DRM boot loa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M boot loader hashes DRM kernel, stores hash in TP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M boot loader loads DRM kern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M kernel verifies pervious hashes, hashes the OS, stores the hash in the TP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M kernel decrypts OS symmetric key (3DES or AES) with a user key internal to the TP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M kernel uses the OS decryption key to dynamically decrypt the operating system while loading the OS from mass storage into memory.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loads initial approved hardware list (HCL), initial Serial Number Revocation List (SRL), verifies previous has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fies hashes in TP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fies application is licensed for the current mother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secure time against application license du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s application-specific SRL via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fies required applications are running. (enforces Spyware licens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s current Document Revocation List (DRL) via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398E-D990-439A-801D-C721CC1C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6C4D-3D31-4C25-A8EE-38C6EB61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D66A-DBD7-45AF-B6F3-4D4A074E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7BB1-22F1-4E45-9DDB-E6EAA82EA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22EA-4EF2-4F86-8F94-233A188A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7B69-7618-46E7-84AC-AB8C9B26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672C-45C6-49E9-BD30-9FDB8082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31C6-FD5A-40AF-8EC7-B964884F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BFAC-F6FE-44C9-A7F6-80454A13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DC1D-D377-4ED0-AF11-427DBFAD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4F27-A0EA-4004-9C97-25B8F466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60C8-6F1E-481C-9224-FF1B8AA9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6754-20B7-4EF4-80F1-A1F0AB6A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E5DE-16E4-48C1-9B3B-D8524885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8EFB-8E40-425E-AD19-9E87204F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76A1-D508-454B-9797-E035D1C6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D82D-FD10-41AB-8629-DF249858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1E2F-9898-44AB-89BC-44D183DA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BA4D-5D60-45BD-9611-A5C4DEE6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BEB0-6B9F-4A81-9CAE-AAB82AF9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21AA-0E29-419B-9869-2D3237C8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CC98-9443-45C1-B233-A8D9BCF6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FF69-5D0E-46EC-A30D-1A94CC96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C3BA-765A-4F64-AF07-0A0E62EC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D6FB-99E1-4A6D-850D-DFC4ADED04E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f27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C67D-F4DB-43E1-883E-E398860DFA10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fc7f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shamrock@cypherpunks.to" TargetMode="External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rustedcomputing.org/" TargetMode="External"/><Relationship Id="rId3" Type="http://schemas.openxmlformats.org/officeDocument/2006/relationships/hyperlink" Target="http://www.cl.cam.ac.uk/~rja14/tcpa-faq.html" TargetMode="External"/><Relationship Id="rId4" Type="http://schemas.openxmlformats.org/officeDocument/2006/relationships/hyperlink" Target="http://www.ftp.cl.cam.ac.uk/ftp/users/rja14/toulouse.pdf" TargetMode="External"/><Relationship Id="rId5" Type="http://schemas.openxmlformats.org/officeDocument/2006/relationships/hyperlink" Target="http://www.msnbc.com/news/770511.asp?cp1=1" TargetMode="External"/><Relationship Id="rId6" Type="http://schemas.openxmlformats.org/officeDocument/2006/relationships/hyperlink" Target="http://www.uspto.gov/patft/" TargetMode="External"/><Relationship Id="rId7" Type="http://schemas.openxmlformats.org/officeDocument/2006/relationships/hyperlink" Target="http://www.microsoft.com/presspass/features/2002/jul02/07-01palladium.asp" TargetMode="External"/><Relationship Id="rId8" Type="http://schemas.openxmlformats.org/officeDocument/2006/relationships/hyperlink" Target="http://thomas.loc.gov/cgi-bin/query/z?c107:S.2048" TargetMode="External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’s Business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vent use of unlicensed softwa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gital Rights Management (DRM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CD ripping and DivX cre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“analog hol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information flow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PC the core of the home entertainment center, growing overall mark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et operational needs of law enforcement and intelligence services (FBI, Homeland, NSA, non-U.S. law enforcement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PM Intern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yptographic opera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ing (SHA-1, HMA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number generation (RNG), post-whitening output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key generation (2048-bit RS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key encrypt/decrypt (2048-bit RS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 encrypt/decrypt (3DES, A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metric key operations may be performed off-ch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mper-resistant hash and key sto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PM Key Manage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orsement K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RSA key generated at time of manufacture. Signed by manufacturer’s key, which is signed by the TCPA master key. Used to prove that the TPM is genu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Ke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r more user RSA keys certified by a “Privacy CA” at time of TPM activation. Used to identify u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181480" y="2133720"/>
            <a:ext cx="2590920" cy="4343400"/>
          </a:xfrm>
          <a:prstGeom prst="rect">
            <a:avLst/>
          </a:prstGeom>
          <a:solidFill>
            <a:srgbClr val="969696">
              <a:alpha val="30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Tahoma"/>
              </a:rPr>
              <a:t>TPM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 pre-OS Boot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2057400"/>
            <a:ext cx="1905120" cy="457200"/>
          </a:xfrm>
          <a:prstGeom prst="flowChartTerminator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BIOS boot block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2819520"/>
            <a:ext cx="1600200" cy="685800"/>
          </a:xfrm>
          <a:prstGeom prst="flowChartInputOutput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BI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2971800"/>
            <a:ext cx="1752840" cy="457200"/>
          </a:xfrm>
          <a:prstGeom prst="flowChartOnlineStorage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Store hash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733920"/>
            <a:ext cx="1600200" cy="761760"/>
          </a:xfrm>
          <a:prstGeom prst="flowChartInputOutput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Optio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ROM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3886200"/>
            <a:ext cx="1752840" cy="457200"/>
          </a:xfrm>
          <a:prstGeom prst="flowChartOnlineStorage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Store hash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4724280"/>
            <a:ext cx="1600200" cy="914400"/>
          </a:xfrm>
          <a:prstGeom prst="flowChartInputOutput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DRM boot loader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4952880"/>
            <a:ext cx="1828800" cy="457200"/>
          </a:xfrm>
          <a:prstGeom prst="flowChartOnlineStorage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Store hash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5791320"/>
            <a:ext cx="1676520" cy="533160"/>
          </a:xfrm>
          <a:prstGeom prst="flowChartInputOutput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DRM kerne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6477120"/>
            <a:ext cx="609480" cy="228600"/>
          </a:xfrm>
          <a:prstGeom prst="flowChartOffpageConnector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1" idx="2"/>
            <a:endCxn id="122" idx="1"/>
          </p:cNvCxnSpPr>
          <p:nvPr/>
        </p:nvCxnSpPr>
        <p:spPr>
          <a:xfrm flipH="1">
            <a:off x="2628360" y="2514240"/>
            <a:ext cx="76680" cy="30564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31" name=""/>
          <p:cNvCxnSpPr>
            <a:stCxn id="122" idx="4"/>
            <a:endCxn id="124" idx="1"/>
          </p:cNvCxnSpPr>
          <p:nvPr/>
        </p:nvCxnSpPr>
        <p:spPr>
          <a:xfrm>
            <a:off x="2628720" y="3504960"/>
            <a:ext cx="1080" cy="22932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32" name=""/>
          <p:cNvCxnSpPr>
            <a:stCxn id="124" idx="4"/>
            <a:endCxn id="126" idx="1"/>
          </p:cNvCxnSpPr>
          <p:nvPr/>
        </p:nvCxnSpPr>
        <p:spPr>
          <a:xfrm>
            <a:off x="2628720" y="4495320"/>
            <a:ext cx="1080" cy="22932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33" name=""/>
          <p:cNvCxnSpPr>
            <a:stCxn id="126" idx="4"/>
            <a:endCxn id="128" idx="1"/>
          </p:cNvCxnSpPr>
          <p:nvPr/>
        </p:nvCxnSpPr>
        <p:spPr>
          <a:xfrm>
            <a:off x="2628720" y="5638680"/>
            <a:ext cx="38520" cy="15336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34" name=""/>
          <p:cNvCxnSpPr>
            <a:stCxn id="128" idx="4"/>
            <a:endCxn id="129" idx="0"/>
          </p:cNvCxnSpPr>
          <p:nvPr/>
        </p:nvCxnSpPr>
        <p:spPr>
          <a:xfrm>
            <a:off x="2666520" y="6324480"/>
            <a:ext cx="1080" cy="15336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35" name=""/>
          <p:cNvCxnSpPr>
            <a:stCxn id="122" idx="5"/>
            <a:endCxn id="123" idx="1"/>
          </p:cNvCxnSpPr>
          <p:nvPr/>
        </p:nvCxnSpPr>
        <p:spPr>
          <a:xfrm>
            <a:off x="3265560" y="3162240"/>
            <a:ext cx="2373840" cy="3888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24" idx="5"/>
            <a:endCxn id="125" idx="1"/>
          </p:cNvCxnSpPr>
          <p:nvPr/>
        </p:nvCxnSpPr>
        <p:spPr>
          <a:xfrm>
            <a:off x="3265560" y="4114440"/>
            <a:ext cx="237384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26" idx="5"/>
            <a:endCxn id="127" idx="1"/>
          </p:cNvCxnSpPr>
          <p:nvPr/>
        </p:nvCxnSpPr>
        <p:spPr>
          <a:xfrm>
            <a:off x="3265560" y="5181120"/>
            <a:ext cx="237384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5638680" y="5791320"/>
            <a:ext cx="1828800" cy="457200"/>
          </a:xfrm>
          <a:prstGeom prst="flowChartOnlineStorage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Store hash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28" idx="5"/>
            <a:endCxn id="138" idx="1"/>
          </p:cNvCxnSpPr>
          <p:nvPr/>
        </p:nvCxnSpPr>
        <p:spPr>
          <a:xfrm flipV="1">
            <a:off x="3335400" y="6019560"/>
            <a:ext cx="2304000" cy="3888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09880" y="3886200"/>
            <a:ext cx="1676520" cy="2514600"/>
          </a:xfrm>
          <a:prstGeom prst="rect">
            <a:avLst/>
          </a:prstGeom>
          <a:solidFill>
            <a:srgbClr val="cccccc">
              <a:alpha val="30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66"/>
                </a:solidFill>
                <a:latin typeface="Tahoma"/>
              </a:rPr>
              <a:t>Phase II: inside TPM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2286000"/>
            <a:ext cx="2133720" cy="4114800"/>
          </a:xfrm>
          <a:prstGeom prst="rect">
            <a:avLst/>
          </a:prstGeom>
          <a:solidFill>
            <a:srgbClr val="969696">
              <a:alpha val="30000"/>
            </a:srgbClr>
          </a:solidFill>
          <a:ln w="158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Tahoma"/>
              </a:rPr>
              <a:t>TPM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 OS Boot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057400"/>
            <a:ext cx="457200" cy="457200"/>
          </a:xfrm>
          <a:prstGeom prst="flowChartConnector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2895480"/>
            <a:ext cx="1219320" cy="762120"/>
          </a:xfrm>
          <a:prstGeom prst="flowChartInputOutput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3048120"/>
            <a:ext cx="1752840" cy="457200"/>
          </a:xfrm>
          <a:prstGeom prst="flowChartOnlineStorage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Store hash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4267080"/>
            <a:ext cx="1371600" cy="91440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RSA decrypt OS binary ke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4267080"/>
            <a:ext cx="1218960" cy="91440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AES decrypt OS binar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4267080"/>
            <a:ext cx="1218960" cy="91440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Load 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2286000"/>
            <a:ext cx="1447560" cy="3429000"/>
          </a:xfrm>
          <a:prstGeom prst="flowChartMagneticDisk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Approved Hardware List (</a:t>
            </a:r>
            <a:r>
              <a:rPr b="1" lang="en-US" sz="1800" spc="-1" strike="noStrike">
                <a:solidFill>
                  <a:srgbClr val="336666"/>
                </a:solidFill>
                <a:latin typeface="Tahoma"/>
              </a:rPr>
              <a:t>HCL</a:t>
            </a: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Serial Number Revocation List (</a:t>
            </a:r>
            <a:r>
              <a:rPr b="1" lang="en-US" sz="1800" spc="-1" strike="noStrike">
                <a:solidFill>
                  <a:srgbClr val="336666"/>
                </a:solidFill>
                <a:latin typeface="Tahoma"/>
              </a:rPr>
              <a:t>SRL</a:t>
            </a: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3" idx="4"/>
            <a:endCxn id="144" idx="1"/>
          </p:cNvCxnSpPr>
          <p:nvPr/>
        </p:nvCxnSpPr>
        <p:spPr>
          <a:xfrm>
            <a:off x="3047760" y="2514600"/>
            <a:ext cx="1080" cy="38160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51" name=""/>
          <p:cNvCxnSpPr>
            <a:stCxn id="145" idx="2"/>
            <a:endCxn id="146" idx="0"/>
          </p:cNvCxnSpPr>
          <p:nvPr/>
        </p:nvCxnSpPr>
        <p:spPr>
          <a:xfrm flipH="1">
            <a:off x="6476760" y="3505320"/>
            <a:ext cx="38880" cy="76248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52" name=""/>
          <p:cNvCxnSpPr>
            <a:stCxn id="146" idx="1"/>
            <a:endCxn id="147" idx="3"/>
          </p:cNvCxnSpPr>
          <p:nvPr/>
        </p:nvCxnSpPr>
        <p:spPr>
          <a:xfrm flipH="1">
            <a:off x="5181120" y="4723920"/>
            <a:ext cx="610560" cy="1080"/>
          </a:xfrm>
          <a:prstGeom prst="straightConnector1">
            <a:avLst/>
          </a:prstGeom>
          <a:ln w="9360">
            <a:solidFill>
              <a:srgbClr val="336666"/>
            </a:solidFill>
            <a:miter/>
          </a:ln>
        </p:spPr>
      </p:cxnSp>
      <p:cxnSp>
        <p:nvCxnSpPr>
          <p:cNvPr id="153" name=""/>
          <p:cNvCxnSpPr>
            <a:stCxn id="149" idx="4"/>
            <a:endCxn id="148" idx="1"/>
          </p:cNvCxnSpPr>
          <p:nvPr/>
        </p:nvCxnSpPr>
        <p:spPr>
          <a:xfrm>
            <a:off x="1752480" y="4000680"/>
            <a:ext cx="610560" cy="72432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1981080" y="5791320"/>
            <a:ext cx="1600200" cy="533160"/>
          </a:xfrm>
          <a:prstGeom prst="flowChartTerminator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OS is runn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48" idx="2"/>
            <a:endCxn id="154" idx="0"/>
          </p:cNvCxnSpPr>
          <p:nvPr/>
        </p:nvCxnSpPr>
        <p:spPr>
          <a:xfrm flipH="1">
            <a:off x="2780640" y="5181480"/>
            <a:ext cx="191160" cy="61056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56" name=""/>
          <p:cNvCxnSpPr>
            <a:stCxn id="144" idx="5"/>
            <a:endCxn id="145" idx="1"/>
          </p:cNvCxnSpPr>
          <p:nvPr/>
        </p:nvCxnSpPr>
        <p:spPr>
          <a:xfrm>
            <a:off x="3533400" y="3276360"/>
            <a:ext cx="210564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47" idx="1"/>
            <a:endCxn id="148" idx="3"/>
          </p:cNvCxnSpPr>
          <p:nvPr/>
        </p:nvCxnSpPr>
        <p:spPr>
          <a:xfrm flipH="1">
            <a:off x="3580560" y="4723920"/>
            <a:ext cx="38196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239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 OS Known Initial Sta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OS is TCPA-approv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CI cards are TCPA-approv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MA devices do not enable unapproved access to operating RA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kernel-level debugger is load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 list of undesirable applications is available for process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s of TCPA operating system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: Palladium (DRM OS pate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: Linu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 OS Initial Task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t secure time counter (no turning back the system clock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nchronize system time against authenticated online time serv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tain HCL and SRL updates over the Intern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re-application Loa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primary application loader protection mod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dator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S will refuse to load a non-TCPA approved ap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luntary”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S will load a non-approved application, sending SIGCOMP to all loaded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pplication Loader Protection Modes Comparis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914400" y="2209680"/>
          <a:ext cx="8001000" cy="416268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2860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</a:t>
                      </a: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datory</a:t>
                      </a: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ntary”</a:t>
                      </a: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hashes application, stores hash in TPM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loads TCPA-approved applications not listed on an SRL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loads application on SRL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4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loads non-approved application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. TCP applications receive SIGCOMP, zeroize their operating RAM, and shut down.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915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 Application Initial Task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2362320"/>
            <a:ext cx="1600200" cy="609480"/>
          </a:xfrm>
          <a:prstGeom prst="flowChartTerminator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Application is loaded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09680" y="2133720"/>
            <a:ext cx="1219320" cy="106668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Verify hashes in TPM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33920" y="2133720"/>
            <a:ext cx="1066680" cy="106668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Verify platform ID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29200" y="2133720"/>
            <a:ext cx="1143000" cy="106668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Verify license duration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05120" y="4648320"/>
            <a:ext cx="1371600" cy="144756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Obtain fresh SRL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4648320"/>
            <a:ext cx="1905120" cy="144756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Verify mandatory applications are running (Spyware)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4648320"/>
            <a:ext cx="1523880" cy="144756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Obtain fresh Document Revocation List (</a:t>
            </a:r>
            <a:r>
              <a:rPr b="1" lang="en-US" sz="1800" spc="-1" strike="noStrike">
                <a:solidFill>
                  <a:srgbClr val="336666"/>
                </a:solidFill>
                <a:latin typeface="Tahoma"/>
              </a:rPr>
              <a:t>DRL</a:t>
            </a: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4648320"/>
            <a:ext cx="1219320" cy="1447560"/>
          </a:xfrm>
          <a:prstGeom prst="flowChartMagneticDisk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SRL Server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86600" y="2133720"/>
            <a:ext cx="990720" cy="1295280"/>
          </a:xfrm>
          <a:prstGeom prst="flowChartMagneticDisk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DRL Server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001000" y="3429000"/>
            <a:ext cx="990720" cy="1295280"/>
          </a:xfrm>
          <a:prstGeom prst="flowChartMagneticDisk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DRL Server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77" name=""/>
          <p:cNvCxnSpPr>
            <a:stCxn id="167" idx="3"/>
            <a:endCxn id="168" idx="1"/>
          </p:cNvCxnSpPr>
          <p:nvPr/>
        </p:nvCxnSpPr>
        <p:spPr>
          <a:xfrm>
            <a:off x="1828800" y="2666520"/>
            <a:ext cx="38160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78" name=""/>
          <p:cNvCxnSpPr>
            <a:stCxn id="168" idx="3"/>
            <a:endCxn id="169" idx="1"/>
          </p:cNvCxnSpPr>
          <p:nvPr/>
        </p:nvCxnSpPr>
        <p:spPr>
          <a:xfrm>
            <a:off x="3428640" y="2666520"/>
            <a:ext cx="30564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79" name=""/>
          <p:cNvCxnSpPr>
            <a:stCxn id="169" idx="3"/>
            <a:endCxn id="170" idx="1"/>
          </p:cNvCxnSpPr>
          <p:nvPr/>
        </p:nvCxnSpPr>
        <p:spPr>
          <a:xfrm>
            <a:off x="4800240" y="2666520"/>
            <a:ext cx="22932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80" name=""/>
          <p:cNvCxnSpPr>
            <a:stCxn id="171" idx="3"/>
            <a:endCxn id="172" idx="1"/>
          </p:cNvCxnSpPr>
          <p:nvPr/>
        </p:nvCxnSpPr>
        <p:spPr>
          <a:xfrm>
            <a:off x="3276720" y="5371920"/>
            <a:ext cx="30528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81" name=""/>
          <p:cNvCxnSpPr>
            <a:stCxn id="172" idx="3"/>
            <a:endCxn id="173" idx="1"/>
          </p:cNvCxnSpPr>
          <p:nvPr/>
        </p:nvCxnSpPr>
        <p:spPr>
          <a:xfrm>
            <a:off x="5486040" y="5371920"/>
            <a:ext cx="30564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7620120" y="5334120"/>
            <a:ext cx="1447560" cy="838080"/>
          </a:xfrm>
          <a:prstGeom prst="flowChartTerminator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Application is ready for user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83" name=""/>
          <p:cNvCxnSpPr>
            <a:stCxn id="175" idx="3"/>
            <a:endCxn id="173" idx="0"/>
          </p:cNvCxnSpPr>
          <p:nvPr/>
        </p:nvCxnSpPr>
        <p:spPr>
          <a:xfrm flipH="1">
            <a:off x="6552720" y="3428640"/>
            <a:ext cx="1029600" cy="122004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3" idx="3"/>
            <a:endCxn id="182" idx="1"/>
          </p:cNvCxnSpPr>
          <p:nvPr/>
        </p:nvCxnSpPr>
        <p:spPr>
          <a:xfrm>
            <a:off x="7314840" y="5372280"/>
            <a:ext cx="305640" cy="381600"/>
          </a:xfrm>
          <a:prstGeom prst="bentConnector3">
            <a:avLst>
              <a:gd name="adj1" fmla="val 50000"/>
            </a:avLst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85" name=""/>
          <p:cNvCxnSpPr>
            <a:stCxn id="174" idx="4"/>
            <a:endCxn id="171" idx="1"/>
          </p:cNvCxnSpPr>
          <p:nvPr/>
        </p:nvCxnSpPr>
        <p:spPr>
          <a:xfrm>
            <a:off x="1599840" y="5371920"/>
            <a:ext cx="30564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70" idx="2"/>
            <a:endCxn id="171" idx="0"/>
          </p:cNvCxnSpPr>
          <p:nvPr/>
        </p:nvCxnSpPr>
        <p:spPr>
          <a:xfrm rot="5400000">
            <a:off x="3371040" y="2419200"/>
            <a:ext cx="1448640" cy="3010680"/>
          </a:xfrm>
          <a:prstGeom prst="bentConnector3">
            <a:avLst>
              <a:gd name="adj1" fmla="val 49987"/>
            </a:avLst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87" name=""/>
          <p:cNvCxnSpPr>
            <a:stCxn id="176" idx="2"/>
            <a:endCxn id="173" idx="0"/>
          </p:cNvCxnSpPr>
          <p:nvPr/>
        </p:nvCxnSpPr>
        <p:spPr>
          <a:xfrm flipH="1">
            <a:off x="6552720" y="4076640"/>
            <a:ext cx="1448640" cy="57240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ost-application Loa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es hashes in TP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es application is licensed for the current motherbo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s secure time against application license d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s application-specific SRL via the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es required applications are running. (Enforces Spyware licens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s current Document Revocation List (DRL) via the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915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’s Technic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vent the owner of a computer from obtaining root acce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force three levels of access privileg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ileged ac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TCPA members only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privileged access [platform owner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privileged access [non-TCPA applications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 Stifling Competi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came at this thinking about music, but then we realized that e-mail and documents were far more interesting domains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-- Bill Gates, Microsof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ould create Word documents that could be read only in the next week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-- Steven Levy, MSNBC/Newswe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Quiz: How will the Law Help TCPA Stifle Competitio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vendors intend to wrap their file formats with D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stion: What does a federal prosecutor call an application that is compatible with a proprietary DRM-wrapped file forma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7774"/>
                </a:solidFill>
                <a:latin typeface="Arial"/>
              </a:rPr>
              <a:t>Answer: An illegal infringement devi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sequences of Ubiquitous Digital Rights Manage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kes it illegal to create interoperable software in the U.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jects authors of interoperable software to penalties of up to $500,000 and 5 years in prison (and double that for subsequent offens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aw is already on the books: Digital Millennium Copyright Act (DMCA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68580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ftware Authors’ Choi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not create interoperable softwa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nd 5 years in pris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PM Report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ng State to Challeng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: operating system,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te: challengers requesting state via the Internet (digital content servers, secure time servers, information authorization serve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porting to Remote Entiti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ote challengers can determine tha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is in an approved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ner of the machine does not have privileged access to the CP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and application software are fully licensed with maintenance fees p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and applications are unmodif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pproved applications are loa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 Feature Enable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ure ongoing revenue strea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ifle competition (DMCA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eat the GP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e information invalid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ilitate intelligence colle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et law enforcement nee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..and many mo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1981080"/>
            <a:ext cx="381240" cy="457200"/>
          </a:xfrm>
          <a:prstGeom prst="irregularSeal1">
            <a:avLst/>
          </a:prstGeom>
          <a:solidFill>
            <a:srgbClr val="99cccc"/>
          </a:solidFill>
          <a:ln w="158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2514600"/>
            <a:ext cx="381240" cy="457200"/>
          </a:xfrm>
          <a:prstGeom prst="irregularSeal1">
            <a:avLst/>
          </a:prstGeom>
          <a:solidFill>
            <a:srgbClr val="99cccc"/>
          </a:solidFill>
          <a:ln w="158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85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385" fill="hold"/>
                                        <p:tgtEl>
                                          <p:spTgt spid="2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385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385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85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385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38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38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feat the GP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P is developing a TCPA-compliant version of Linux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PL requires the result to be Open Sour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urce code will compile and can be verifi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: the source alone is useless without a TPM-specific certific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uggested Fixes to the GP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 software authors to provide whichever services are necessary to enable an application to operate as the user desir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ates Stallman’s “Free Speech” vs. “Free Beer” princi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PM prevents application authors from providing the activation key even if they so desire. (Violation of the DMC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 third parties to provide the servi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 and Bob agree that Carol shall provide free beer to all comers in perpetuity. (Unenforceable Contrac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nformation Invalid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tion queries Document Revocation List servers for the latest DR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sons for placing a document on a DR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by a compromised (unpaid) copy of th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dated by court order: Official Secrets Act, copyrighted material, danger to Homeland Secu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ly illegal content: pictures of women without veils in Muslim countries, copy control ciphers in the 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number of reas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 Herita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succeed where previous efforts have fail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ID (Intel, 1995-199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ed CPU instruction sets (Intel, 1995-TCPA Phase I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Cryptography Framework (HP, 199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cards on motherboard (IBM, ongoing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ntelligence Colle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cuments signed by user keys allow activity corre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obally unique document IDs facilitate traffic analy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emptive information invalidation enables information flow contro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w Enforcement Nee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deniable proof of authorsh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cument monitoring/track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ation invalidation by court ord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Law Enforcement access after public information invalidation for evidentiary purpo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4678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ill TCPA Meet Governmental Requirement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are talking to the government [...] Ther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overnments in the world, and not just the U.S. Government.”      --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ario Juarez, Microsoft, Palladium (TCPA) Product Mana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ritz Hollings Bill: S. 2048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BDPTA (formerly SSSC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ug “analog hole” with 2048-bit RS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o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rosof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ly encrypt keyboard input to 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. 2048 makes i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illeg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sell non-TCPA-compliant comput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Quiz: Fritz Hollings S. 2048 Penalti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stion: what is the penalty a person selling a non-TCPA approved computer will face under the Hollings bil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fix-it” tic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 months in j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$500,000 fine and 5 years in prison for the first offense; double that for each subsequent off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27774"/>
                </a:solidFill>
                <a:latin typeface="Arial"/>
              </a:rPr>
              <a:t>The correct answer is C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27774"/>
                </a:solidFill>
                <a:latin typeface="Arial"/>
              </a:rPr>
              <a:t>      </a:t>
            </a:r>
            <a:r>
              <a:rPr b="1" lang="en-US" sz="2600" spc="-1" strike="noStrike">
                <a:solidFill>
                  <a:srgbClr val="f27774"/>
                </a:solidFill>
                <a:latin typeface="Arial"/>
              </a:rPr>
              <a:t>A $500,000 fine and 5 years in prison for the first offense; double that for each subsequent offen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ut Palladium will be Released as Open Source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rosoft announced that Palladium’s source code will be publish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are trying to be transparent in all this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Jim Allchin, Group Vice President, Windows, Microsof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take this as proof that Microsoft has changed its business practi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s remain skeptic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152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Quiz: Why is Microsoft Releasing the Palladium Source Code?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uestion: which of the following answers is correct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intends to place MS Office under the GPL in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will release the Windows source code under the BSD license in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has little choice but to release Palladium as Open Source because S. 2048 requires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27774"/>
                </a:solidFill>
                <a:latin typeface="Arial"/>
              </a:rPr>
              <a:t>The correct answer is C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27774"/>
                </a:solidFill>
                <a:latin typeface="Arial"/>
              </a:rPr>
              <a:t>       </a:t>
            </a:r>
            <a:r>
              <a:rPr b="1" lang="en-US" sz="2100" spc="-1" strike="noStrike">
                <a:solidFill>
                  <a:srgbClr val="f27774"/>
                </a:solidFill>
                <a:latin typeface="Arial"/>
              </a:rPr>
              <a:t>S. 2048 requires that “the security system standards shall ensure [...] that any software portion of such standards is based on open source code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se of TPM’s is Volunta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thing I can guarantee is that [Palladium] will be 'off' by default, an opt-in technology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tuart Okin, Security Officer, Microsoft, United Kingd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gasoline in a car is an opt-in technolog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5105520" y="3505320"/>
            <a:ext cx="38098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ould an OS Vendor Block “Undesirable” Application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rosoft may provide security related updates to the OS Components that will be automatically downloaded onto your computer.  These security related updates may disable your ability to copy and/or play Secure Content and use other software on your computer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icrosoft, Windows Media Player EU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hase I: Digital Ho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p codes are in plaintext on the bu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microprobed off the b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Encrypted CPU instruction sets in TCPA Phase II (TPM inside CPU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r can select non-TCPA-approved OS for minimum functionalit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Prevent non-approved OS from accessing CPU supervisor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There will be new modes and new instructions.... A whole new class of processors not differentiated by speed, but security.” -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offrey Strongin, A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The new hardware architecture involves some changes to CPUs which are significant from a functional perspective.” -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io Juarez, Micro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 Histo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nded in 1999 b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y TCPA Might Succe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ssor I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went alone. AMD publicly rejected Processor 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privacy advocates were not considered a serious thre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CP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, AMD, Motorola, BIOS vendors, system vendors, and application vendors are all on bo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prong technical and legislative initi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privacy groups were briefed ea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12680" y="3429000"/>
            <a:ext cx="8955000" cy="1143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1066680" y="5486400"/>
            <a:ext cx="1981440" cy="380880"/>
          </a:xfrm>
          <a:prstGeom prst="borderCallout1">
            <a:avLst>
              <a:gd name="adj1" fmla="val 18750"/>
              <a:gd name="adj2" fmla="val -8333"/>
              <a:gd name="adj3" fmla="val 437495"/>
              <a:gd name="adj4" fmla="val -179648"/>
            </a:avLst>
          </a:prstGeom>
          <a:solidFill>
            <a:srgbClr val="fc7f6a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Mobile Phon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-Enabled Platfor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5257800"/>
            <a:ext cx="1752480" cy="380880"/>
          </a:xfrm>
          <a:prstGeom prst="borderCallout1">
            <a:avLst>
              <a:gd name="adj1" fmla="val 18750"/>
              <a:gd name="adj2" fmla="val -8333"/>
              <a:gd name="adj3" fmla="val -300833"/>
              <a:gd name="adj4" fmla="val 176541"/>
            </a:avLst>
          </a:prstGeom>
          <a:solidFill>
            <a:srgbClr val="fc7f6a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PDA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2247840"/>
            <a:ext cx="2133720" cy="419040"/>
          </a:xfrm>
          <a:prstGeom prst="borderCallout1">
            <a:avLst>
              <a:gd name="adj1" fmla="val 18750"/>
              <a:gd name="adj2" fmla="val -8333"/>
              <a:gd name="adj3" fmla="val 384092"/>
              <a:gd name="adj4" fmla="val 306324"/>
            </a:avLst>
          </a:prstGeom>
          <a:solidFill>
            <a:srgbClr val="fc7f6a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Laptop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867280" y="2362320"/>
            <a:ext cx="1676520" cy="380880"/>
          </a:xfrm>
          <a:prstGeom prst="borderCallout1">
            <a:avLst>
              <a:gd name="adj1" fmla="val 18750"/>
              <a:gd name="adj2" fmla="val -8333"/>
              <a:gd name="adj3" fmla="val 370000"/>
              <a:gd name="adj4" fmla="val 163634"/>
            </a:avLst>
          </a:prstGeom>
          <a:solidFill>
            <a:srgbClr val="fc7f6a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Server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End Resul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nd result is a system with security similar to a closed-architecture system but with the flexibility of the open Windows platform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hn Manferdelli, General Manager, Microsoft "Palladium" Business Un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ail Lucky Green </a:t>
            </a:r>
            <a:r>
              <a:rPr b="0" lang="en-US" sz="3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shamrock@cypherpunks.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lies will occur after DEF C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, talk to me during the c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orge Orwell,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198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usted Computing Platform Allia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3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http://www.trustedcomputing.org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A Main Specifications Version 1.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A PC Specific Implementation Specifications Version 1.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A Trusted Platform Module Protection Profile Version 1.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oss Anders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A / Palladium Frequently Asked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http://www.cl.cam.ac.uk/~rja14/tcpa-faq.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 in Open versus Closed Systems - The Dance of Boltzmann, Coase and Mo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http://www.ftp.cl.cam.ac.uk/ftp/users/rja14/toulouse.pd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ven Levy, MSNBC/Newsweek, “The Big Secret”   </a:t>
            </a:r>
            <a:r>
              <a:rPr b="0" lang="en-US" sz="13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http://www.msnbc.com/news/770511.asp?cp1=1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icrosoft’s DRM OS (Palladium) US Patent 6,330,670 </a:t>
            </a:r>
            <a:r>
              <a:rPr b="0" lang="en-US" sz="1300" spc="-1" strike="noStrike" u="sng">
                <a:solidFill>
                  <a:srgbClr val="006666"/>
                </a:solidFill>
                <a:uFillTx/>
                <a:latin typeface="Arial"/>
                <a:hlinkClick r:id="rId6"/>
              </a:rPr>
              <a:t>http://www.uspto.gov/patft/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icrosoft PressPass Q&amp;A Palladi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300" spc="-1" strike="noStrike" u="sng">
                <a:solidFill>
                  <a:srgbClr val="006666"/>
                </a:solidFill>
                <a:uFillTx/>
                <a:latin typeface="Arial"/>
                <a:hlinkClick r:id="rId7"/>
              </a:rPr>
              <a:t>http://www.microsoft.com/presspass/features/2002/jul02/07-01palladium.asp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sumer Broadband and Digital Television Promotion Act (S. 2048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300" spc="-1" strike="noStrike" u="sng">
                <a:solidFill>
                  <a:srgbClr val="006666"/>
                </a:solidFill>
                <a:uFillTx/>
                <a:latin typeface="Arial"/>
                <a:hlinkClick r:id="rId8"/>
              </a:rPr>
              <a:t>http://thomas.loc.gov/cgi-bin/query/z?c107:S.2048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 Membership Profi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CPA is a forum of platform product vend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, Advanced Micro Devices (AMD), Motor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S/Chi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enix/Award, American Megatrends (AMI), National Semicondu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Sign, Wave Systems, RSA Security, Check Point, Certicom, Trend Micro, Symantec, Tripwire, Crypto AG [NSA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, Adob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, IBM, Dell, Gateway, Fujitsu, Samsung, Toshib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’s 170+ Member Compani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95280" y="2004840"/>
          <a:ext cx="7696440" cy="4776840"/>
        </p:xfrm>
        <a:graphic>
          <a:graphicData uri="http://schemas.openxmlformats.org/drawingml/2006/table">
            <a:tbl>
              <a:tblPr/>
              <a:tblGrid>
                <a:gridCol w="1866960"/>
                <a:gridCol w="1943280"/>
                <a:gridCol w="1942920"/>
                <a:gridCol w="1943280"/>
              </a:tblGrid>
              <a:tr h="47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 Degree Web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Com Corp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360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r, Inc.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Card Inc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haero Technologies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be Systems, Inc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Micro Devices, Inc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sec Corporation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ddin Knowledge Systems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orithmic Research Ltd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n Express Company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n Megatrends Inc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us Security Corporation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mel Corporation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MEL Rousset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entium, Inc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trol Uruguaya S.A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timore Technologies Ltd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GDATA AG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View Development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Stream Technology Corporation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ice Research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adcom Corporation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aig Ltd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veo Technology LLC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vium Networks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Infosys Pte Ltd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berus Information Security Limited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com Corp.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Point Software Technologies Ltd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FLOW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ysalis-ITS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marron Systems Incorporated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pherKey Exchange Corporation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akware Corporation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cation Intelligence Corporation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gnie Européenne de Développement SA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l Electronics, Inc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q Computer Corporation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Elektronik Infosys GmbH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ypto AG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gate ESM Oy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LINK Corporation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l Computer Corporation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A Technologies Inc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iGAN, Inc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ital Innotech Co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ital Persona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retix Technologies Ltd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PCguard.com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ryp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tan Comm B.V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ova Technology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ure Technologie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ust Technologies Ltd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COM Pty Lt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ntica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alibur Solutions, Inc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RGOS Development, LLC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GLOQ AB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Access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ress Technologies Inc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jitsu Limite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jitsu-Siemens-Computer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eway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mplus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Etrotter Software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wlett-Packard Company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tachi, Ltd. PC Div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Secur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/O Software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SA.net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 Tech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Alink Limite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eer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eon Technologies Corporation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eon Technologies Asia Pacific Pte Lt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Core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yde Software Corp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ity Sciences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lok Technologies L.L.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ational Business Machine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ational Service Consultants Ltd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 Dynamics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 Security System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Trust Technologies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mega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sten Chase Applied Research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corp Ltd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ware Technologies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works Technologies Co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end (SHENZHEN) R&amp;D Center, Legend Group Ltd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xign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quid Audio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ronic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SIL Consulting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-Systems Flash Disk Pioneer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3S Enterprise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rovision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ive Media Group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 DNA Incorporate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logic Co., Lt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axis Biometrics Co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n Electronics, Inc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ac International Corporation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e-Mind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ola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 Semiconductor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ipher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S Limite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C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Nanny Software International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Active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Atmosphere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Octave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Secure Software Canada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 Associates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Trend Technology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ll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Vidia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2Micro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 Source Asia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 Guardia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ilips Semiconductor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enix Technologies, Ltd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jnenburg Custom Chips B.V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sion Digital Hardware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waterhouse Cooper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m Resources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-Team Computer Corp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t Data Security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bow Technologies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ytheon Company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-Net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strike B.V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SA Security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Net, Incorporated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LINK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GEM MORPHO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GRELTO Enterprises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SUNG ELECTRONICS CO. LT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S Institute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lumberger, Smart Cards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ce Applications International Co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ton Technologies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M Microsystem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ra Communications AB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ant Technologie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e Computing Corporation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e Systems Solutions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mens AG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ex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YRUS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H Communications Security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Microsystems Corporation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Microelectronics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antec Corporation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 Technologies, Inc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ar Software Corp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les e-Security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Certain, LLC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an Systems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shiba Corporation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nd Micro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pwire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spen Technologie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Time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Sec Solutions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stpoint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N Entertainment Corporation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bize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maco Safeware AG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Cert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aSafe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dicom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sign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wpoint Engineering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ire Advanced Data Security Lt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e Systems Corp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cor Nixdorf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Magic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Vista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560" y="190440"/>
            <a:ext cx="73911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’s Technology (Phase I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sted Platform Module (TPM), aka the “Fritz Chip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mper resistant chip to be included on all future motherboa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face mount; either a separate part or integrated into the chip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Criteria EAL3 [augmented] certif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15000" y="3276720"/>
            <a:ext cx="297180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152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PM Functionality Categori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PM Measure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yptographic oper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y st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y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ot process has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4:21:27Z</dcterms:created>
  <dc:creator>Lucky Green</dc:creator>
  <dc:description/>
  <dc:language>en-US</dc:language>
  <cp:lastModifiedBy>Lucky Green</cp:lastModifiedBy>
  <dcterms:modified xsi:type="dcterms:W3CDTF">2002-07-10T15:33:49Z</dcterms:modified>
  <cp:revision>139</cp:revision>
  <dc:subject/>
  <dc:title>TCPA: the mother(board) of all Big Brothers</dc:title>
</cp:coreProperties>
</file>