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C70F-0731-4F8F-880C-7EFA1B345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Slide, really quick intro. For those of you who cannot read my name is Ken Caruso. I am co-founder the Seattlewireless.net (not the same as seattlewireless.com) Community Wireless Networking Project, and co-founder of Freenetworks.org an aggregation point for freenetwork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discussion on Community Wireless Networks aka Freenetworks, combined with a comedic slideshow of almost three years of gonzo like adventures in the Freenetworks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try a new approach to this presentation where I after each bullet point slide I will provide you with a picture and quick short (and hopefully funny) story about the picture. I figured this would help ease the pain of having to sit here and listen to me for the next hour or s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from a SeattleWireless meeting where we taught everyone how to make Pringles can-tennas, actually our real plan was to make everyone sick to their stomach since you the Pringles cans have to be empty before you can use them. Whenever I can see this picture all I can think of is the Steve Martin movie “The Jerk” , particularly the seen where he says “He hates these ca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ink that while the major ISPs are swearing up and down about people giving their bandwidth away, they kind of like it because it gives something to blame the problem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arger ISPs started talking about moving away from all you can eat service, its kind of kick in the teeth because that was their promise for the future “always on”, “unlimited!”, “lightning fast!” until they realized that unlike buffets where the restaurant actually closes and kicks people out, you can line up an overnights worth of downloads pretty easily. As it turns out that unlimited bandwidth does cost money. Well instead of admitting that they didn’t think things though properly, now they can blame it on us. I can see it now, getting something in the mail from ATT, upset that your cable bill is up, blame the wireless commies, join the fight against the wireless Bolsheviks and turn in your neighbors who are operating access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eks are always pissed off the phone company, we deal with them at work and at home. When cheap broadband first started getting introduced, all the geeks were excited. What, I can get a half a meg to my house for under a $100 bucks! Its pretty sweet, but then they started saying oh, no static ips, no we wont change the reverse lookups, oh and we are going to filter these ports inbound. Welcome to the time of “Consumer Internet Connections”. It was to be expected that this would  happen but none the less all of us who want an unadulterated connection to the internet are pissed at the Telcos and this is how we v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dia definitely loves this stuff, every reporter I talk to wants to know how much the Telcos hate u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s the saying go? A picture tells a thousand words? I let you use your imagination on this one. This a SeattleWireless participant showing of his err antenna? Actually Ben did a lot of work in coming up with cheap easy kits for building near commercial grade yagi antenn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anyone do anything for free? Having spoken on this topic at venues with many different types of audiences, one the biggest questions is why would people spend money on providing something for fr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Usually my answer is I don’t know, I do it because I enjoy it and I like meeting people in my local tech  community. Some people do it because they feel like its their way of sticking it to the telcos, some people are just tinkers or hobbyists. There are tons of people subscribed to community wireless mailing lists and attending meetings, they all have different reasons for doing it. But a lot of people have hard time understanding why people would do this and not expect anything back, I don’t think anyone will ask that question here thoug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ists are really confused by the freenetworks movement. More than a couple have asked me what my secret plan is, they think that we are trying to rope people in and then one day, ah ha! You have all fallen into to the get Ken rich scheme, I continually explain that there it no intention of making money and that this is all a volunteer effort. As long they keep taking me out for free lunches I will continue to explain that to them. I guess that may be the only monetary benefit I get from th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companies that are building wireless networks, hotspots or otherwise cant decide whether or not they feel we hurt there model. Personally in the short to mid term I don’t think we will, because people have a you get what pay for mentality. Corporate Road Warriors and the like will pay for something where there is a guaranteed coverage area or a guaranteed service level of some sort which we cant provide. In some cases we cant even say that they will be able to connect to the Internet, maybe just a wireless MAN. I think we are filling to different needs, however one major difference with a volunteer effort is that we are not on a fixed budget. If all of these wireless providers hotspots or otherwise are not making any money and can not get more funding, we can potentially outlive them because our groups are doing this expecting it to cost money and not get any back in retur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from the last Freenetworks.org summit which was held January 2002 in Seattle. It attracted over 200 people. Notice all the hot women that showed up, and be grateful that this is not a scratch and sniff ph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last summit had presentations from wireless groups all over the US, Europe, and Canada. Through these events and also communicating online we try to focus our efforts since we all have to solve similar technical and political probl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m not a privacy expert so I am going to touch on this subject rather quickly and give you my thoughts. A wireless network built of nodes that all owned by separate people or entities means that it is harder for government agencies to aggregate sniffing activities. Since a lot of local traffic may only be traveling a couple of hops its hard for them to find one central place to gather information from, also since potentially these nodes all may be run by different people they potentially have to go through the process of acquiring a wiretap or for each individually owned n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participating in this kind of network does not require me to provide a lot of private information to any particular ent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 exchange a lot of data with my neighbor that I want to try and keep out of prying eyes, if I have a direct wireless link to him, I know that more than a phone call to the local Telco is required to spy on this traffic, first they have to know that I am actually doing this, secondly they have to come out physically put a monitoring device somewhere in my local area to try and sniff my wireless traffic, more like an old fashion stake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of this will guarantee privacy, but they way I look at it , its up to us to keep our Government Agencies on our toes. I know they can find out what I am doing if they really want to, does that mean I have to make easy for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ully compliant 802.11b microwave oven. Actually this box is currently one the core routers on the SeattleWirelss network. It is on the roof of a house in just North East of downtown Seattle. The devices are the boards that come in RG-1000s, and Apple Airports, they getting power over Ethernet and I believe at least one or two of them are net booting Linux and the other running the stock firmw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someone owning their connection and device that provides them local loop access is obviously a lot different from our current situation. To some degree it amazing that we still are not renting telephones from the phone company. But for the most part we are locked into to one loop provider, which may or not allow other ISPs to play on their network, and which is ultimately the barrier to the type of technology we get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tting people involved in building these types of wireless networks they start to realize how restrictive the current local loop is. Even if this whole never takes off the way we would like it to, it still reinforces more free thinking and will potentially have effect on how future legislations and how active people get in government or municipal decisions that effect data and voice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 think that these types of networks can only help the progression and testing of new technology.  While they may not be mission critical now, they may never be, they provided an excellent test bed for new tech. Think IPv6, routing protocol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has a pretty funny story. Its funny because here in the US where Time Warner sends cease and desist letters to people running free access points, and telcos denounce community wireless groups, it seems that the Japanese Telco have a different perspective. The gentlemen on the left and right of the photo are Senior Technologists from Nippon Telegraph and Telephone. They are in the process of deploying fee based wireless networks in Japan. Instead of declaring us the enemy they actually flew over to Seattle bearing gifts, and Visio Diagrams of their network and asked us what our opinion was on their Architecture and pricing mod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P2P apps can greatly benefit from Freenetworks, one of the cool things is that when you connect as a client to an Access Point, you already know that all the other clients on your access point are your immediate physical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igher speed local connections there is a significant benefit to getting your files off of a local 1-10 megabit connection instead of going out your Internet connection. To some degree I thought ISPs would have already thought of this, if you and another user on the same ISP or even on the same DSLAM you would think they would give you faster transit to other customers since downloading or sharing files with someone else on their network saves them money because you are not using their Internet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participating on the local freenetwork you will not have to deal with the fact that your ISP may nat you or restrict or certain ports its your wireless connection to the rest of networ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sey an amateur radio operator who is involved with Seattlewireless project. He likes to stand next to omni-directional antennas that have 1watt amplifiers powering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now you must all be dying to know what you need to do to start your own freenetworks group. I would suggest checking out Freenetwork.org and other community wireless sites. If there is nothing going on in your area put up a website and mailing list, hit all the local user group meetings and drum up interest. The last slides will have a bunch of links to check out to help you get started. Also it’s a good idea to try decide what the focus of your group will be, free internet? Local loop? Use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roups have chosen to go the route of becoming a recognized non-profit others have not. If this is something that you are interested in, check for other tech oriented non-profits in your area, because they can probably help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pages have links to various community wireless sites which have a plethora of technical information and other resources to help you get star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e" in freenetworks for most people represents freedom in that it is possible for groups or communities to build self owned and operated infrastructure in hopes of it providing relief from the existing options for network communications. </a:t>
            </a:r>
            <a:br>
              <a:rPr sz="1000"/>
            </a:br>
            <a:br>
              <a:rPr sz="1000"/>
            </a:br>
            <a:r>
              <a:rPr b="0" lang="en-US" sz="1000" spc="-1" strike="noStrike">
                <a:solidFill>
                  <a:srgbClr val="000000"/>
                </a:solidFill>
                <a:latin typeface="Arial"/>
              </a:rPr>
              <a:t>A Free Network is a network freely available to anyone. Although not all of the Freenetworking projects share the same mission. They do share a love for the freedom that wireless networking allows. Being able to build large networks without the bureaucracy of telcos is an incredible thing and is probably the best definition of the "free" in freenetworks. </a:t>
            </a:r>
            <a:br>
              <a:rPr sz="1000"/>
            </a:br>
            <a:br>
              <a:rPr sz="1000"/>
            </a:br>
            <a:r>
              <a:rPr b="0" lang="en-US" sz="1000" spc="-1" strike="noStrike">
                <a:solidFill>
                  <a:srgbClr val="000000"/>
                </a:solidFill>
                <a:latin typeface="Arial"/>
              </a:rPr>
              <a:t>A freenetwork is a network in which anyone with the proper equipment can send and receive data from any point in the network to any point in the network without paying transit fees. This does not mean that a freenetwork cannot be connected to other networks which charge for transit (such as the internet), however while exchanging data within the bounds of the freenetwork there shall be no cost for transit or peering other than the cost of the required equipment. </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Freenetwork or Freenet has been used is a lot of different scenarios, we chose this term to represent community wireless networks philosophy and not pertain to any particular technology, after all if we had the ability to affordably lay our own fiber in the ground we would be doing that to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networks are networks of various types being built by regular normal everyday people like all of us here at Defcon. Using 802.11b, 802.11a and future standards we are building community owned and operated networks and nodes that provide free services to people with wireless g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most part the Free is as in Free speech a lot of people work very hard to make develop these net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 picture of one of the early seattlewireless nodes which has an omni directional antenna at a very high spot in the West Seattle, the mast the omni is mounted on was fastened to the homeowners porch using speaker wire, needless to say the node is no longer up and the person who we lent the gear too still has it and is trying to start up a Wireless ISP using our name which we have common trademark on. Many lessons lear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currently 182 wireless network communities that I am aware of spanning from China, Israel, Australia, Europe, North and South America. Obviously with all of these different projects, a lot of them have different goal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lot of these projects are focused on providing free wireless Internet access, also some of them with a side focus on building a wireless cloud over their city or town which is what I going to talk the most about he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ject that I am most intimate with is the Seattlewireless.net project and our focus tends to differ slightly from a lot of the projects. We are not interested in providing free internet access, but rather building a core wireless network throughout the city that does not rely on Telco lines (copper/fiber) and basically is sustainable without the Internet. The hope is that having such a network that does not focus on the Internet will breed more localized communications and apps.  For a lot of people this hard to understand, a lot of people outside the tech sector don’t realize that their company has an Intranet in addition to their Internet connection. So they don’t understand the value of having high speed wireless access throughout the city if its not connected to the net. I like to refer to what we are doing as “creating bandwidth” and apposed to providing bandwidt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I setup and 11megabit link between myself and my neighbor I have just created bandwidth between us, and unless one of us has a really hefty internet connection, were are never going to fully reap the benefits of an 11megabit connection unless we are doing something that is not going out to the Intern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things that really got me interested in this is just that. As most of you know I could be trying to communicate with a neighbor and we may have different Internet Providers, even though we may be less than a mile away my packets could physically be leaving the state and coming back in to get to his end. While this is not always the case, it is a fact the ISP’s are not focused on traffic between their customers they are focused on traffic that goes to the Internet. Building these local wireless networks allows local network traffic to be routed more efficient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happens when you use your rent money to pay for DSL. This was at one of the SeattleWireless BBQ’s this node runs DOS I don’t remember what version probably 6.22 it uses routing program for DOS to route packets and is pretty much impossible to remotely root since you cant remotely log into a DOS box, however this makes impossible to remotely admin the box, I just thought it was funny that someone would even bother do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 first started working on the Seattlewireless project I had no idea how fast this these types of projects would grow. I was totally shocked at the amount of interest that press has in these projects. I basically thought it would cool to have a wireless BBS style network that I could connect too and figured not many people would not be interested in that. Well I was definitely wro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a couple of key factors that I think really had a big part in the explosive growth of Freenetwor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say the great thing about standards is that everyone has one. Which was exactly the case. If you wanted to something like this four years ago, you would have to pick a vendor and buy gear solely from them because there was no ratified standard to insure interoperability. Aironet, Proxim, Lucent and a lot of other companies had been making wireless networking gear for a long time but you couldn’t use one with the other. With the 802.11 standard you can now buy anything that is 802.11b compliant and it will play well with others. The name Wi-Fi coined by WECA and the work that they do has had a lot to do with its adoption in the not so technical public. Now any lay person can and look for the wi-fi logo and buy with the confidence that it will work, even if it takes them a week or so to figure out how to configure an IP Address on their Access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predictable outcomes of having a bunch of different companies selling identical or near identical equipment is that the price was driven down dramatically. The first Access Point I owned which wasn’t even 802.11b cost somewhere around $700. This past year I organized a mass purchase for some Orinoco Access Points at $60 a piece. You can get cards on ebay for as cheap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eless is like crack, you give it to someone for a few minutes and they want it everywhere. The first time I ever got my ex-girlfriend to say “This is really cool!” with something computer related was when I showed her that she could surf the net anywhere in the house without any wi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think another big reason why freenetworking projects are gaining so much momentum is that people like us are starting to feel screwed over by large ISP’s, the first time I found out that I could get half a meg of connectivity for under a $100 bucks I was floored. I got it, then after a while they no longer would give out static IPs to consumer accounts, inbound ports were being filtered, they wouldn’t change the reverse lookups for my ip addresses etc…  Building a wireless network where I potentially have an 11megabit link to the rest of my community is really coo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but definitely not least is that geeks like to make computers talk to each other, that is why we do this. I can say that is what is ultimately responsible for my addiction to wire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son I use BSD </a:t>
            </a:r>
            <a:r>
              <a:rPr b="0" lang="en-US" sz="1200" spc="-1" strike="noStrike">
                <a:solidFill>
                  <a:srgbClr val="000000"/>
                </a:solidFill>
                <a:latin typeface="Wingdings"/>
                <a:ea typeface="Wingdings"/>
              </a:rPr>
              <a:t></a:t>
            </a:r>
            <a:r>
              <a:rPr b="0" lang="en-US" sz="1200" spc="-1" strike="noStrike">
                <a:solidFill>
                  <a:srgbClr val="000000"/>
                </a:solidFill>
                <a:latin typeface="Arial"/>
              </a:rPr>
              <a:t> (just kidding), actually this picture is from a “Closing the Digital Divide” conference put on Microsoft which touched on the subjects such as helping third world countries by locking them into software licenses. The local Linux users group was demonstrating there so we decided it would be a good place to try and recruit people for the SeattleWireless networ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n the next couple of slides I am going to discuss reasons why people like, dislike and do not know what think about community wireless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off the major consumer broadband providers have already expressed how much they dislike this movement. A lot of times they equate it to cable piracy, and if you read some of their Acceptable Use Policies it is a violation of the contract to share the connectivity outside of your residence. Keep in mind that these same providers have been complaining for a while about how a small percentage of their users use the most bandwidth. So they have already been feeling the burn from providing flat-rate buffet style Internet Access and this just add fuel to the f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they have a right to be concerned? I would say so, however if I were in their shoes I might try to work something out where they will allow sharing as long as it is not abused, or reserve the right to kill the service if it gets out of hand. You would think they would like to see the data in regards to how bandwidth these nodes actually use and maybe use it as a research c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this is exactly what an ISP in Portland is doing and I will get in to that more in the next sl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ere is 3g? People cannot rely on the telcos to provide them with mobile Internet Access, yet all of these smaller companies, and some cases community networks are doing it in cafes, airports, etc…? I think to some degree there is a little bit of egg on the face, since people don’t want to know the difference between wifi, 3g, or cdma. They just want to turn on their laptop and be able to check mail, which is exactly what they are doing now without 3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think to some degree a lot of WISPs or hotspot providers might be concerned about crowding the band, 802.11b operates in unlicensed spectrum in the 2.4 gigahertz band, as does cordless phones, x10 wireless locker room camera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don’t know about you, but I would really worried about trying to guarantee a service level when I have no control over the conduit (in this case the spectrum) and in fact the FCC is going to say yeah, oh we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have not seen a Pringles can-tenna, shame on you. Its an antenna you can cheaply build to boost the range of your 802.11b card, the best part is you get to eat chips. The worst part is that its in violation on the FCC regulations, so first off if you are starting a freenetwork, do not use Pringles cans. If the FCC ever comes to visit you, they probably wont be happ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AA664-7EB5-4A0D-B190-20E7C3E3C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7D0B-8568-4CF4-AB6C-AFA96AE5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73FB-71DB-4993-A60A-0A924087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450CF-50D4-4F07-9C80-CBB1C5444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A5482-FD53-46A0-8F99-2B2DD302D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AA19B-E1F5-42B3-9663-93AB8DE0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F262-E419-4C50-A65D-193AB1D85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D4A71-6500-4004-8315-B244B3D5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7FEA8-E872-4BB8-8A26-EC7EDB302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F4A46-1DE8-4517-80B5-F7DA6589A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7603A-D1E6-47D7-BFDE-1EC255016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8413-ECEC-4947-9826-4BC139D9B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522E1-62F6-4F2F-9DA4-1F07304A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6FB46-7A4C-4795-B826-C2D21686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3BBA1-81F7-4F3B-AC97-73754F76B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11709-A2F5-4432-BEAE-A732D5F4B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2332F-7FDF-4592-A2DB-1C352F5E2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E1E4-03D4-4DFD-81E7-9C39C2A9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FC5C-980B-4016-B014-BAD5026E4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924B-5EE4-4D17-A66B-991D001D9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DA79-DA3F-40FD-9CDB-E73AEF72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3C0C-029B-4CEF-9762-6B0B6E7B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8D71-8736-4D4B-8050-4F735C12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9063-63FF-48B4-A11F-2AD7826A0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1003-97F6-4E84-A953-7BFAC472FE4E}" type="datetime">
              <a:rPr b="0" lang="en-US" sz="1200" spc="-1" strike="noStrike">
                <a:solidFill>
                  <a:srgbClr val="b2b2b2"/>
                </a:solidFill>
                <a:latin typeface="Tahoma"/>
              </a:rPr>
              <a:t>07/30/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94A9-753D-49B6-96B1-9DFDBD528506}"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20C9-1EC2-44E0-B4C5-A69C306ADACC}" type="datetime">
              <a:rPr b="0" lang="en-US" sz="1200" spc="-1" strike="noStrike">
                <a:solidFill>
                  <a:srgbClr val="b2b2b2"/>
                </a:solidFill>
                <a:latin typeface="Tahoma"/>
              </a:rPr>
              <a:t>07/30/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D6B9-F56D-4E47-B466-461B62C2F19D}"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freenetworks.org/" TargetMode="External"/><Relationship Id="rId2" Type="http://schemas.openxmlformats.org/officeDocument/2006/relationships/hyperlink" Target="http://seattlewireless.net/" TargetMode="External"/><Relationship Id="rId3" Type="http://schemas.openxmlformats.org/officeDocument/2006/relationships/hyperlink" Target="http://personaltelco.net/" TargetMode="External"/><Relationship Id="rId4" Type="http://schemas.openxmlformats.org/officeDocument/2006/relationships/hyperlink" Target="http://nycwireless.ne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ar and Loathing in Community Wireless Networks</a:t>
            </a:r>
            <a:endParaRPr b="0" lang="en-US" sz="4000" spc="-1" strike="noStrike">
              <a:solidFill>
                <a:srgbClr val="ffffff"/>
              </a:solidFill>
              <a:latin typeface="Tahoma"/>
            </a:endParaRPr>
          </a:p>
        </p:txBody>
      </p:sp>
      <p:sp>
        <p:nvSpPr>
          <p:cNvPr id="128"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en Caruso – Co-Founder Seattlewireless.net, Freenetworks.org</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ken@ipl31.net</a:t>
            </a:r>
          </a:p>
        </p:txBody>
      </p:sp>
      <p:sp>
        <p:nvSpPr>
          <p:cNvPr id="5" name="PlaceHolder 4"/>
          <p:cNvSpPr>
            <a:spLocks noGrp="1"/>
          </p:cNvSpPr>
          <p:nvPr>
            <p:ph type="sldNum" idx="6"/>
          </p:nvPr>
        </p:nvSpPr>
        <p:spPr/>
        <p:txBody>
          <a:bodyPr/>
          <a:p>
            <a:fld id="{DA0E8E5D-2DB0-4F1A-A617-04E9A01D029E}" type="slidenum">
              <a:t>1</a:t>
            </a:fld>
          </a:p>
        </p:txBody>
      </p:sp>
      <p:sp>
        <p:nvSpPr>
          <p:cNvPr id="6" name="PlaceHolder 5"/>
          <p:cNvSpPr>
            <a:spLocks noGrp="1"/>
          </p:cNvSpPr>
          <p:nvPr>
            <p:ph type="dt" idx="4"/>
          </p:nvPr>
        </p:nvSpPr>
        <p:spPr/>
        <p:txBody>
          <a:bodyPr/>
          <a:p>
            <a:fld id="{EDE0B191-5955-4F95-88E6-8CF2AD4A8873}"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27000"/>
            <a:ext cx="9144000" cy="68594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A07EFA54-B4ED-48CC-A1DA-2FFECA1EC91F}" type="slidenum">
              <a:t>10</a:t>
            </a:fld>
          </a:p>
        </p:txBody>
      </p:sp>
      <p:sp>
        <p:nvSpPr>
          <p:cNvPr id="4" name="PlaceHolder 3"/>
          <p:cNvSpPr>
            <a:spLocks noGrp="1"/>
          </p:cNvSpPr>
          <p:nvPr>
            <p:ph type="dt" idx="1"/>
          </p:nvPr>
        </p:nvSpPr>
        <p:spPr/>
        <p:txBody>
          <a:bodyPr/>
          <a:p>
            <a:fld id="{242547E6-C156-438D-ADBA-ABCF49BD784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riend?</a:t>
            </a:r>
            <a:endParaRPr b="0" lang="en-US" sz="4000" spc="-1" strike="noStrike">
              <a:solidFill>
                <a:srgbClr val="ffffff"/>
              </a:solidFill>
              <a:latin typeface="Tahoma"/>
            </a:endParaRPr>
          </a:p>
        </p:txBody>
      </p:sp>
      <p:sp>
        <p:nvSpPr>
          <p:cNvPr id="14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another thing for ISPs to complain abou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ek community is always pissed off at the Telc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 loves the “controvers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C67E9575-3F8E-441D-A4BA-4DB48AB8F680}" type="slidenum">
              <a:t>11</a:t>
            </a:fld>
          </a:p>
        </p:txBody>
      </p:sp>
      <p:sp>
        <p:nvSpPr>
          <p:cNvPr id="6" name="PlaceHolder 5"/>
          <p:cNvSpPr>
            <a:spLocks noGrp="1"/>
          </p:cNvSpPr>
          <p:nvPr>
            <p:ph type="dt" idx="1"/>
          </p:nvPr>
        </p:nvSpPr>
        <p:spPr/>
        <p:txBody>
          <a:bodyPr/>
          <a:p>
            <a:fld id="{7FF967B2-7DBF-4AEB-A589-1C852B73A07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8DAAAB3D-5869-4CAF-B7AE-B81CE281EA1E}" type="slidenum">
              <a:t>12</a:t>
            </a:fld>
          </a:p>
        </p:txBody>
      </p:sp>
      <p:sp>
        <p:nvSpPr>
          <p:cNvPr id="4" name="PlaceHolder 3"/>
          <p:cNvSpPr>
            <a:spLocks noGrp="1"/>
          </p:cNvSpPr>
          <p:nvPr>
            <p:ph type="dt" idx="1"/>
          </p:nvPr>
        </p:nvSpPr>
        <p:spPr/>
        <p:txBody>
          <a:bodyPr/>
          <a:p>
            <a:fld id="{C4E15480-5BF8-4FA0-B353-2BA67F7E5CD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fusion</a:t>
            </a:r>
            <a:endParaRPr b="0" lang="en-US" sz="4000" spc="-1" strike="noStrike">
              <a:solidFill>
                <a:srgbClr val="ffffff"/>
              </a:solidFill>
              <a:latin typeface="Tahoma"/>
            </a:endParaRPr>
          </a:p>
        </p:txBody>
      </p:sp>
      <p:sp>
        <p:nvSpPr>
          <p:cNvPr id="14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ould anyone do anything for fr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ure Capitalists want to know the secret pl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pays for i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is hurt or hinder other model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BAC86BC7-E1CB-4E22-9970-D0AD13E04B39}" type="slidenum">
              <a:t>13</a:t>
            </a:fld>
          </a:p>
        </p:txBody>
      </p:sp>
      <p:sp>
        <p:nvSpPr>
          <p:cNvPr id="6" name="PlaceHolder 5"/>
          <p:cNvSpPr>
            <a:spLocks noGrp="1"/>
          </p:cNvSpPr>
          <p:nvPr>
            <p:ph type="dt" idx="1"/>
          </p:nvPr>
        </p:nvSpPr>
        <p:spPr/>
        <p:txBody>
          <a:bodyPr/>
          <a:p>
            <a:fld id="{97667DDE-53BC-44C5-9A7B-2BB01462EC0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24FD41F7-8707-40F4-B3B2-9DE5952E861C}" type="slidenum">
              <a:t>14</a:t>
            </a:fld>
          </a:p>
        </p:txBody>
      </p:sp>
      <p:sp>
        <p:nvSpPr>
          <p:cNvPr id="4" name="PlaceHolder 3"/>
          <p:cNvSpPr>
            <a:spLocks noGrp="1"/>
          </p:cNvSpPr>
          <p:nvPr>
            <p:ph type="dt" idx="1"/>
          </p:nvPr>
        </p:nvSpPr>
        <p:spPr/>
        <p:txBody>
          <a:bodyPr/>
          <a:p>
            <a:fld id="{D9647597-024C-4757-B086-E89DD1780D0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ivacy</a:t>
            </a:r>
            <a:endParaRPr b="0" lang="en-US" sz="4000" spc="-1" strike="noStrike">
              <a:solidFill>
                <a:srgbClr val="ffffff"/>
              </a:solidFill>
              <a:latin typeface="Tahoma"/>
            </a:endParaRPr>
          </a:p>
        </p:txBody>
      </p:sp>
      <p:sp>
        <p:nvSpPr>
          <p:cNvPr id="15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entralization of network ownership</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er to get aggregate inspection point</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need to give private information to join/use the network</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9ABEB264-6B73-4E8D-9658-BF11C6E664FE}" type="slidenum">
              <a:t>15</a:t>
            </a:fld>
          </a:p>
        </p:txBody>
      </p:sp>
      <p:sp>
        <p:nvSpPr>
          <p:cNvPr id="6" name="PlaceHolder 5"/>
          <p:cNvSpPr>
            <a:spLocks noGrp="1"/>
          </p:cNvSpPr>
          <p:nvPr>
            <p:ph type="dt" idx="1"/>
          </p:nvPr>
        </p:nvSpPr>
        <p:spPr/>
        <p:txBody>
          <a:bodyPr/>
          <a:p>
            <a:fld id="{3C6DB7B7-B179-479D-8BC6-FE4CC732539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052AB03E-739D-4D4B-A89E-AD7D1B11556C}" type="slidenum">
              <a:t>16</a:t>
            </a:fld>
          </a:p>
        </p:txBody>
      </p:sp>
      <p:sp>
        <p:nvSpPr>
          <p:cNvPr id="4" name="PlaceHolder 3"/>
          <p:cNvSpPr>
            <a:spLocks noGrp="1"/>
          </p:cNvSpPr>
          <p:nvPr>
            <p:ph type="dt" idx="1"/>
          </p:nvPr>
        </p:nvSpPr>
        <p:spPr/>
        <p:txBody>
          <a:bodyPr/>
          <a:p>
            <a:fld id="{F5B6279A-001F-42AA-902C-452B9E267F4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unity or Independently Owned Infrastructure</a:t>
            </a:r>
            <a:endParaRPr b="0" lang="en-US" sz="4000" spc="-1" strike="noStrike">
              <a:solidFill>
                <a:srgbClr val="ffffff"/>
              </a:solidFill>
              <a:latin typeface="Tahoma"/>
            </a:endParaRPr>
          </a:p>
        </p:txBody>
      </p:sp>
      <p:sp>
        <p:nvSpPr>
          <p:cNvPr id="15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 from existing way of think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king down the local loop monopol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ter deployment of new technolog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ing R&amp;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D095E3CF-74CA-4F71-BC89-9ADABE29772E}" type="slidenum">
              <a:t>17</a:t>
            </a:fld>
          </a:p>
        </p:txBody>
      </p:sp>
      <p:sp>
        <p:nvSpPr>
          <p:cNvPr id="6" name="PlaceHolder 5"/>
          <p:cNvSpPr>
            <a:spLocks noGrp="1"/>
          </p:cNvSpPr>
          <p:nvPr>
            <p:ph type="dt" idx="1"/>
          </p:nvPr>
        </p:nvSpPr>
        <p:spPr/>
        <p:txBody>
          <a:bodyPr/>
          <a:p>
            <a:fld id="{BB0967A1-B953-4DFB-A4CB-A5AC54FA4C7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3D9FA3E3-4981-4035-BA12-44EE5F6CBC9E}" type="slidenum">
              <a:t>18</a:t>
            </a:fld>
          </a:p>
        </p:txBody>
      </p:sp>
      <p:sp>
        <p:nvSpPr>
          <p:cNvPr id="4" name="PlaceHolder 3"/>
          <p:cNvSpPr>
            <a:spLocks noGrp="1"/>
          </p:cNvSpPr>
          <p:nvPr>
            <p:ph type="dt" idx="1"/>
          </p:nvPr>
        </p:nvSpPr>
        <p:spPr/>
        <p:txBody>
          <a:bodyPr/>
          <a:p>
            <a:fld id="{DA795A5F-0DFA-4DCF-802E-B7CD65E2EF3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eer to Peer </a:t>
            </a:r>
            <a:endParaRPr b="0" lang="en-US" sz="4000" spc="-1" strike="noStrike">
              <a:solidFill>
                <a:srgbClr val="ffffff"/>
              </a:solidFill>
              <a:latin typeface="Tahoma"/>
            </a:endParaRPr>
          </a:p>
        </p:txBody>
      </p:sp>
      <p:sp>
        <p:nvSpPr>
          <p:cNvPr id="156"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 based app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efficiency in p2p apps such as file shar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go get it from the Internet when my next door neighbor has it on our wireless lin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88C4F603-D41E-48FB-8BD6-239D1694FCEB}" type="slidenum">
              <a:t>19</a:t>
            </a:fld>
          </a:p>
        </p:txBody>
      </p:sp>
      <p:sp>
        <p:nvSpPr>
          <p:cNvPr id="6" name="PlaceHolder 5"/>
          <p:cNvSpPr>
            <a:spLocks noGrp="1"/>
          </p:cNvSpPr>
          <p:nvPr>
            <p:ph type="dt" idx="1"/>
          </p:nvPr>
        </p:nvSpPr>
        <p:spPr/>
        <p:txBody>
          <a:bodyPr/>
          <a:p>
            <a:fld id="{BCB6DC89-00D3-44F0-8E06-CDACB4D6E63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tice to CD Users</a:t>
            </a:r>
            <a:endParaRPr b="0" lang="en-US" sz="4000" spc="-1" strike="noStrike">
              <a:solidFill>
                <a:srgbClr val="ffffff"/>
              </a:solidFill>
              <a:latin typeface="Tahoma"/>
            </a:endParaRPr>
          </a:p>
        </p:txBody>
      </p:sp>
      <p:sp>
        <p:nvSpPr>
          <p:cNvPr id="13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are reading this off of the CD, please note that I have a lot of info in the speakers notes, I like to keep the slides terse, and put most of what I will discuss in the speakers notes of the PowerPoint. Also check to see if a newer revision of the slide deck has been release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99513FE9-298C-4A78-A162-9032CB811BCA}" type="slidenum">
              <a:t>2</a:t>
            </a:fld>
          </a:p>
        </p:txBody>
      </p:sp>
      <p:sp>
        <p:nvSpPr>
          <p:cNvPr id="6" name="PlaceHolder 5"/>
          <p:cNvSpPr>
            <a:spLocks noGrp="1"/>
          </p:cNvSpPr>
          <p:nvPr>
            <p:ph type="dt" idx="1"/>
          </p:nvPr>
        </p:nvSpPr>
        <p:spPr/>
        <p:txBody>
          <a:bodyPr/>
          <a:p>
            <a:fld id="{53A81786-582B-4E80-AC2E-15216DADFA5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440"/>
            <a:ext cx="9144000" cy="68594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5273FA8D-79B8-45F9-B3A7-4BEEE7356B63}" type="slidenum">
              <a:t>20</a:t>
            </a:fld>
          </a:p>
        </p:txBody>
      </p:sp>
      <p:sp>
        <p:nvSpPr>
          <p:cNvPr id="4" name="PlaceHolder 3"/>
          <p:cNvSpPr>
            <a:spLocks noGrp="1"/>
          </p:cNvSpPr>
          <p:nvPr>
            <p:ph type="dt" idx="1"/>
          </p:nvPr>
        </p:nvSpPr>
        <p:spPr/>
        <p:txBody>
          <a:bodyPr/>
          <a:p>
            <a:fld id="{D89F7BF4-C21F-41FE-8AF2-C65F3B7A6BBC}"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I start</a:t>
            </a:r>
            <a:endParaRPr b="0" lang="en-US" sz="4000" spc="-1" strike="noStrike">
              <a:solidFill>
                <a:srgbClr val="ffffff"/>
              </a:solidFill>
              <a:latin typeface="Tahoma"/>
            </a:endParaRPr>
          </a:p>
        </p:txBody>
      </p:sp>
      <p:sp>
        <p:nvSpPr>
          <p:cNvPr id="15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to see if a group exists in your are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a mailing list and website to organize meetings and ev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existing groups mailing lists and websit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558FF70D-F951-40FA-8F96-F5411DA354D4}" type="slidenum">
              <a:t>21</a:t>
            </a:fld>
          </a:p>
        </p:txBody>
      </p:sp>
      <p:sp>
        <p:nvSpPr>
          <p:cNvPr id="6" name="PlaceHolder 5"/>
          <p:cNvSpPr>
            <a:spLocks noGrp="1"/>
          </p:cNvSpPr>
          <p:nvPr>
            <p:ph type="dt" idx="1"/>
          </p:nvPr>
        </p:nvSpPr>
        <p:spPr/>
        <p:txBody>
          <a:bodyPr/>
          <a:p>
            <a:fld id="{E9F09B0B-29F3-429C-A9DA-489AFDB20D5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nks</a:t>
            </a:r>
            <a:endParaRPr b="0" lang="en-US" sz="4000" spc="-1" strike="noStrike">
              <a:solidFill>
                <a:srgbClr val="ffffff"/>
              </a:solidFill>
              <a:latin typeface="Tahoma"/>
            </a:endParaRPr>
          </a:p>
        </p:txBody>
      </p:sp>
      <p:sp>
        <p:nvSpPr>
          <p:cNvPr id="16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http://freenetworks.org</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2"/>
              </a:rPr>
              <a:t>http://seattlewireless.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3"/>
              </a:rPr>
              <a:t>http://personaltelco.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4"/>
              </a:rPr>
              <a:t>http://nycwireless.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bawug.org</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consume.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nocat.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novawireless.or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372EBDD1-47B7-4113-8AAA-DE55DBA1A906}" type="slidenum">
              <a:t>22</a:t>
            </a:fld>
          </a:p>
        </p:txBody>
      </p:sp>
      <p:sp>
        <p:nvSpPr>
          <p:cNvPr id="6" name="PlaceHolder 5"/>
          <p:cNvSpPr>
            <a:spLocks noGrp="1"/>
          </p:cNvSpPr>
          <p:nvPr>
            <p:ph type="dt" idx="1"/>
          </p:nvPr>
        </p:nvSpPr>
        <p:spPr/>
        <p:txBody>
          <a:bodyPr/>
          <a:p>
            <a:fld id="{1DEE2137-5991-465F-A36B-B6167C856AC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nks</a:t>
            </a:r>
            <a:endParaRPr b="0" lang="en-US" sz="4000" spc="-1" strike="noStrike">
              <a:solidFill>
                <a:srgbClr val="ffffff"/>
              </a:solidFill>
              <a:latin typeface="Tahoma"/>
            </a:endParaRPr>
          </a:p>
        </p:txBody>
      </p:sp>
      <p:sp>
        <p:nvSpPr>
          <p:cNvPr id="1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houstonwireless.or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lektrosmog.nu/</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bcwireless.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austinwireless.ne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C4DAC852-29CE-4588-AFB6-75E8AE4AC67C}" type="slidenum">
              <a:t>23</a:t>
            </a:fld>
          </a:p>
        </p:txBody>
      </p:sp>
      <p:sp>
        <p:nvSpPr>
          <p:cNvPr id="6" name="PlaceHolder 5"/>
          <p:cNvSpPr>
            <a:spLocks noGrp="1"/>
          </p:cNvSpPr>
          <p:nvPr>
            <p:ph type="dt" idx="1"/>
          </p:nvPr>
        </p:nvSpPr>
        <p:spPr/>
        <p:txBody>
          <a:bodyPr/>
          <a:p>
            <a:fld id="{DAAB2333-52C4-4266-9434-54C218F7083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reenetworks?</a:t>
            </a:r>
            <a:endParaRPr b="0" lang="en-US" sz="4000" spc="-1" strike="noStrike">
              <a:solidFill>
                <a:srgbClr val="ffffff"/>
              </a:solidFill>
              <a:latin typeface="Tahoma"/>
            </a:endParaRPr>
          </a:p>
        </p:txBody>
      </p:sp>
      <p:sp>
        <p:nvSpPr>
          <p:cNvPr id="13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peering/free transi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up a node start routing packe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Wireless Net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 as in spee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A6815B84-E3AA-4B8D-B6E6-340151A50FEB}" type="slidenum">
              <a:t>3</a:t>
            </a:fld>
          </a:p>
        </p:txBody>
      </p:sp>
      <p:sp>
        <p:nvSpPr>
          <p:cNvPr id="6" name="PlaceHolder 5"/>
          <p:cNvSpPr>
            <a:spLocks noGrp="1"/>
          </p:cNvSpPr>
          <p:nvPr>
            <p:ph type="dt" idx="1"/>
          </p:nvPr>
        </p:nvSpPr>
        <p:spPr/>
        <p:txBody>
          <a:bodyPr/>
          <a:p>
            <a:fld id="{8C14418D-CBBE-4C95-887C-7DA511ADD615}"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714708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6BF4270D-0669-4226-8FB1-4428CCF45FB6}" type="slidenum">
              <a:t>4</a:t>
            </a:fld>
          </a:p>
        </p:txBody>
      </p:sp>
      <p:sp>
        <p:nvSpPr>
          <p:cNvPr id="4" name="PlaceHolder 3"/>
          <p:cNvSpPr>
            <a:spLocks noGrp="1"/>
          </p:cNvSpPr>
          <p:nvPr>
            <p:ph type="dt" idx="1"/>
          </p:nvPr>
        </p:nvSpPr>
        <p:spPr/>
        <p:txBody>
          <a:bodyPr/>
          <a:p>
            <a:fld id="{43C60C14-4498-436F-9193-3AA8E193578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t Approaches</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ome the current mission is free public Internet Ac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ome the mission is to build Infrastructure that is completely community owned, does not rely on existing Telco lines, and may not necessarily provide Internet acc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010BF898-073C-4843-9C6C-0154D2B662AB}" type="slidenum">
              <a:t>5</a:t>
            </a:fld>
          </a:p>
        </p:txBody>
      </p:sp>
      <p:sp>
        <p:nvSpPr>
          <p:cNvPr id="6" name="PlaceHolder 5"/>
          <p:cNvSpPr>
            <a:spLocks noGrp="1"/>
          </p:cNvSpPr>
          <p:nvPr>
            <p:ph type="dt" idx="1"/>
          </p:nvPr>
        </p:nvSpPr>
        <p:spPr/>
        <p:txBody>
          <a:bodyPr/>
          <a:p>
            <a:fld id="{32DB79A3-EEF0-465F-97E5-B346C1568A4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8F8FF9B1-42E5-43E0-B9B0-F11BBDBEAB22}" type="slidenum">
              <a:t>6</a:t>
            </a:fld>
          </a:p>
        </p:txBody>
      </p:sp>
      <p:sp>
        <p:nvSpPr>
          <p:cNvPr id="4" name="PlaceHolder 3"/>
          <p:cNvSpPr>
            <a:spLocks noGrp="1"/>
          </p:cNvSpPr>
          <p:nvPr>
            <p:ph type="dt" idx="1"/>
          </p:nvPr>
        </p:nvSpPr>
        <p:spPr/>
        <p:txBody>
          <a:bodyPr/>
          <a:p>
            <a:fld id="{0800CCBB-16FF-41BC-8E42-5CBB1116128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this happening?</a:t>
            </a:r>
            <a:endParaRPr b="0" lang="en-US" sz="4000" spc="-1" strike="noStrike">
              <a:solidFill>
                <a:srgbClr val="ffffff"/>
              </a:solidFill>
              <a:latin typeface="Tahoma"/>
            </a:endParaRPr>
          </a:p>
        </p:txBody>
      </p:sp>
      <p:sp>
        <p:nvSpPr>
          <p:cNvPr id="13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s based technology is finally available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emely inexpensive gear</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wing desire for connectivity anywher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ies/Hackers feel like they are being screwed over by ISP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BBS, Fidonet etc... (Geeks like to connect computers together)</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F1EF6936-4B3A-43B5-811D-865B7A74D7D4}" type="slidenum">
              <a:t>7</a:t>
            </a:fld>
          </a:p>
        </p:txBody>
      </p:sp>
      <p:sp>
        <p:nvSpPr>
          <p:cNvPr id="6" name="PlaceHolder 5"/>
          <p:cNvSpPr>
            <a:spLocks noGrp="1"/>
          </p:cNvSpPr>
          <p:nvPr>
            <p:ph type="dt" idx="1"/>
          </p:nvPr>
        </p:nvSpPr>
        <p:spPr/>
        <p:txBody>
          <a:bodyPr/>
          <a:p>
            <a:fld id="{076BF8F5-5CB4-4DA1-ABAA-86C64E5BE47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04760"/>
            <a:ext cx="9144000" cy="67532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DC58EBDA-18A2-4E95-A03B-CE1695A07BDD}" type="slidenum">
              <a:t>8</a:t>
            </a:fld>
          </a:p>
        </p:txBody>
      </p:sp>
      <p:sp>
        <p:nvSpPr>
          <p:cNvPr id="4" name="PlaceHolder 3"/>
          <p:cNvSpPr>
            <a:spLocks noGrp="1"/>
          </p:cNvSpPr>
          <p:nvPr>
            <p:ph type="dt" idx="1"/>
          </p:nvPr>
        </p:nvSpPr>
        <p:spPr/>
        <p:txBody>
          <a:bodyPr/>
          <a:p>
            <a:fld id="{A786F965-5814-4CD4-B4D2-05C39356C57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e?</a:t>
            </a:r>
            <a:endParaRPr b="0" lang="en-US" sz="4000" spc="-1" strike="noStrike">
              <a:solidFill>
                <a:srgbClr val="ffffff"/>
              </a:solidFill>
              <a:latin typeface="Tahoma"/>
            </a:endParaRPr>
          </a:p>
        </p:txBody>
      </p:sp>
      <p:sp>
        <p:nvSpPr>
          <p:cNvPr id="14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P’s providing all you can eat have already been feeling the bur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is 3g?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SPs are possibly concerned about crowded band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gles Can-tennas are not FCC certifie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22170931-C979-45CD-95B8-8A2EC4C5127B}" type="slidenum">
              <a:t>9</a:t>
            </a:fld>
          </a:p>
        </p:txBody>
      </p:sp>
      <p:sp>
        <p:nvSpPr>
          <p:cNvPr id="6" name="PlaceHolder 5"/>
          <p:cNvSpPr>
            <a:spLocks noGrp="1"/>
          </p:cNvSpPr>
          <p:nvPr>
            <p:ph type="dt" idx="1"/>
          </p:nvPr>
        </p:nvSpPr>
        <p:spPr/>
        <p:txBody>
          <a:bodyPr/>
          <a:p>
            <a:fld id="{A1B2D137-FAD9-4DC2-A478-A2C01A03D65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pl31</cp:lastModifiedBy>
  <dcterms:modified xsi:type="dcterms:W3CDTF">2002-07-11T12:04:4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