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10075863" cy="756285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93240" y="777960"/>
            <a:ext cx="5110200" cy="38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0798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88000"/>
              </a:lnSpc>
              <a:buNone/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2"/>
          </p:nvPr>
        </p:nvSpPr>
        <p:spPr>
          <a:xfrm>
            <a:off x="4017600" y="0"/>
            <a:ext cx="30798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8000"/>
              </a:lnSpc>
              <a:buNone/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8000"/>
              </a:lnSpc>
              <a:buNone/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3"/>
          </p:nvPr>
        </p:nvSpPr>
        <p:spPr>
          <a:xfrm>
            <a:off x="-360" y="9721800"/>
            <a:ext cx="30798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lnSpc>
                <a:spcPct val="88000"/>
              </a:lnSpc>
              <a:buNone/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8000"/>
              </a:lnSpc>
              <a:buNone/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4"/>
          </p:nvPr>
        </p:nvSpPr>
        <p:spPr>
          <a:xfrm>
            <a:off x="4017600" y="9721800"/>
            <a:ext cx="30798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88000"/>
              </a:lnSpc>
              <a:buNone/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8000"/>
              </a:lnSpc>
              <a:buNone/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fld id="{8024D1A6-24B7-4AED-B58E-DF0F4C523B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92160" y="777960"/>
            <a:ext cx="5113440" cy="38368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3164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We believe in the advantages of a common language to increase the community productiv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Common programming language, good starting point but not enou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 shared flexible data model and good programming inte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Consistent communication  with the user: interface, documentation, error messages, reporting forma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39BA9-2196-4D62-85C2-58AF08DB63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43280" y="163080"/>
            <a:ext cx="785808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912672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5880" y="4343760"/>
            <a:ext cx="912672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1C432-A616-41CA-B79F-2A9D65D7BF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3280" y="163080"/>
            <a:ext cx="785808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445356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2640" y="1398240"/>
            <a:ext cx="445356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880" y="4343760"/>
            <a:ext cx="445356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2640" y="4343760"/>
            <a:ext cx="445356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0C106-6B66-4E05-8DEB-33B2E2CBF5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3280" y="163080"/>
            <a:ext cx="785808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293868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01800" y="1398240"/>
            <a:ext cx="293868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87720" y="1398240"/>
            <a:ext cx="293868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5880" y="4343760"/>
            <a:ext cx="293868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01800" y="4343760"/>
            <a:ext cx="293868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87720" y="4343760"/>
            <a:ext cx="293868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DDA1D-168E-4F06-A003-FA25EE9FDF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3280" y="163080"/>
            <a:ext cx="785808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15880" y="1398240"/>
            <a:ext cx="9126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43280" y="163080"/>
            <a:ext cx="785808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912672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3280" y="163080"/>
            <a:ext cx="785808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445356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92640" y="1398240"/>
            <a:ext cx="445356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43280" y="163080"/>
            <a:ext cx="785808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943280" y="208080"/>
            <a:ext cx="785808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3280" y="163080"/>
            <a:ext cx="785808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445356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92640" y="1398240"/>
            <a:ext cx="445356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880" y="4343760"/>
            <a:ext cx="445356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43280" y="163080"/>
            <a:ext cx="785808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15880" y="1398240"/>
            <a:ext cx="9126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7D0C8-1E25-44C4-8468-EAB55597C1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3280" y="163080"/>
            <a:ext cx="785808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445356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92640" y="1398240"/>
            <a:ext cx="445356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192640" y="4343760"/>
            <a:ext cx="445356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3280" y="163080"/>
            <a:ext cx="785808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445356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2640" y="1398240"/>
            <a:ext cx="445356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5880" y="4343760"/>
            <a:ext cx="912672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3280" y="163080"/>
            <a:ext cx="785808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912672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880" y="4343760"/>
            <a:ext cx="912672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43280" y="163080"/>
            <a:ext cx="785808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445356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2640" y="1398240"/>
            <a:ext cx="445356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5880" y="4343760"/>
            <a:ext cx="445356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192640" y="4343760"/>
            <a:ext cx="445356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43280" y="163080"/>
            <a:ext cx="785808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293868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01800" y="1398240"/>
            <a:ext cx="293868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7720" y="1398240"/>
            <a:ext cx="293868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880" y="4343760"/>
            <a:ext cx="293868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601800" y="4343760"/>
            <a:ext cx="293868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687720" y="4343760"/>
            <a:ext cx="293868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43280" y="163080"/>
            <a:ext cx="785808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912672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D9BA5-DC4F-4C07-8CB9-11A7F1CDCC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43280" y="163080"/>
            <a:ext cx="785808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445356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2640" y="1398240"/>
            <a:ext cx="445356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F64B9-9D6C-4DC6-932E-09941416CE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43280" y="163080"/>
            <a:ext cx="785808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84EAF-6781-41E5-AB84-AE396C3136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943280" y="208080"/>
            <a:ext cx="785808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82726-C2F7-40C6-8D16-80FE51A0FA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43280" y="163080"/>
            <a:ext cx="785808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445356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2640" y="1398240"/>
            <a:ext cx="445356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15880" y="4343760"/>
            <a:ext cx="445356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08B23-2EF4-4D64-83E3-EAE470F1BD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3280" y="163080"/>
            <a:ext cx="785808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445356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2640" y="1398240"/>
            <a:ext cx="445356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2640" y="4343760"/>
            <a:ext cx="445356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88701-DFA7-4245-892A-CE006D88E0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43280" y="163080"/>
            <a:ext cx="785808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445356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2640" y="1398240"/>
            <a:ext cx="445356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5880" y="4343760"/>
            <a:ext cx="912672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8B80E-186D-40D7-9AA6-CDFE02A9FF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8080" cy="62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5880" y="1398240"/>
            <a:ext cx="912672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Verdan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Verdan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Verdana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Verdana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Verdana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530920" y="7226280"/>
            <a:ext cx="1158840" cy="287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1" lang="zh-CN" sz="11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9B9E4A0C-DA25-4E2F-84CC-8A8BCBA65B2D}" type="slidenum">
              <a:rPr b="1" lang="zh-CN" sz="11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53840" y="1717200"/>
            <a:ext cx="8569080" cy="1428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03640" y="1769760"/>
            <a:ext cx="90684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lvl="1" marL="503280" indent="0" algn="ctr">
              <a:spcBef>
                <a:spcPts val="77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2" marL="1008000" algn="ctr"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511280" algn="ctr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2016000" algn="ctr">
              <a:spcBef>
                <a:spcPts val="550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2016000">
              <a:spcBef>
                <a:spcPts val="55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2016000">
              <a:spcBef>
                <a:spcPts val="55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hi.baidu.com/aullik5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hi.baidu.com/aullik5/blog/item/d38bba00c1e3d104738da5e1.html" TargetMode="External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nehta.googlecode.com/" TargetMode="External"/><Relationship Id="rId3" Type="http://schemas.openxmlformats.org/officeDocument/2006/relationships/hyperlink" Target="http://planet.ph4nt0m.org/" TargetMode="External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3840" y="1717200"/>
            <a:ext cx="8569080" cy="1428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Anehta</a:t>
            </a:r>
            <a:br>
              <a:rPr sz="7200"/>
            </a:b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高级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XSS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攻击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798200" y="3781440"/>
            <a:ext cx="6372360" cy="1325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axis@ph4nt0m.org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8080" cy="62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nehta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的架构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912672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采众家之长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不是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Framework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， 而是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Platform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Anehta.js :: JS Attack API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430200" y="3925800"/>
            <a:ext cx="2448000" cy="201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61840" y="4573440"/>
            <a:ext cx="1081440" cy="64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20296800">
            <a:off x="1943280" y="4068360"/>
            <a:ext cx="1726920" cy="504720"/>
          </a:xfrm>
          <a:prstGeom prst="rightArrow">
            <a:avLst>
              <a:gd name="adj1" fmla="val 50000"/>
              <a:gd name="adj2" fmla="val 855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1269000">
            <a:off x="1869840" y="5294160"/>
            <a:ext cx="1726920" cy="505080"/>
          </a:xfrm>
          <a:prstGeom prst="rightArrow">
            <a:avLst>
              <a:gd name="adj1" fmla="val 50000"/>
              <a:gd name="adj2" fmla="val 854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98920" y="3565440"/>
            <a:ext cx="1295280" cy="649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25840" y="5653080"/>
            <a:ext cx="1295280" cy="649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31280" y="4068720"/>
            <a:ext cx="2016000" cy="2881440"/>
          </a:xfrm>
          <a:custGeom>
            <a:avLst/>
            <a:gdLst>
              <a:gd name="textAreaLeft" fmla="*/ 98280 w 2016000"/>
              <a:gd name="textAreaRight" fmla="*/ 1917720 w 2016000"/>
              <a:gd name="textAreaTop" fmla="*/ 98280 h 2881440"/>
              <a:gd name="textAreaBottom" fmla="*/ 2783160 h 2881440"/>
            </a:gdLst>
            <a:ahLst/>
            <a:rect l="textAreaLeft" t="textAreaTop" r="textAreaRight" b="textAreaBottom"/>
            <a:pathLst>
              <a:path w="21600" h="30871">
                <a:moveTo>
                  <a:pt x="3600" y="0"/>
                </a:moveTo>
                <a:arcTo wR="3600" hR="3600" stAng="16200000" swAng="-5400000"/>
                <a:lnTo>
                  <a:pt x="0" y="27271"/>
                </a:lnTo>
                <a:arcTo wR="3600" hR="3600" stAng="10800000" swAng="-5400000"/>
                <a:lnTo>
                  <a:pt x="18000" y="308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639280" y="2486160"/>
            <a:ext cx="647640" cy="64764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783640" y="3349800"/>
            <a:ext cx="504720" cy="1081080"/>
          </a:xfrm>
          <a:prstGeom prst="upArrow">
            <a:avLst>
              <a:gd name="adj1" fmla="val 50000"/>
              <a:gd name="adj2" fmla="val 535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913400">
            <a:off x="4174920" y="6518160"/>
            <a:ext cx="1008000" cy="432000"/>
          </a:xfrm>
          <a:custGeom>
            <a:avLst/>
            <a:gdLst>
              <a:gd name="textAreaLeft" fmla="*/ 176400 w 1008000"/>
              <a:gd name="textAreaRight" fmla="*/ 730800 w 100800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822920" y="5869080"/>
            <a:ext cx="647640" cy="360360"/>
          </a:xfrm>
          <a:prstGeom prst="rightArrow">
            <a:avLst>
              <a:gd name="adj1" fmla="val 50000"/>
              <a:gd name="adj2" fmla="val 449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9848000">
            <a:off x="4102200" y="4717800"/>
            <a:ext cx="1296720" cy="576000"/>
          </a:xfrm>
          <a:custGeom>
            <a:avLst/>
            <a:gdLst>
              <a:gd name="textAreaLeft" fmla="*/ 226800 w 1296720"/>
              <a:gd name="textAreaRight" fmla="*/ 940320 w 1296720"/>
              <a:gd name="textAreaTop" fmla="*/ 77040 h 576000"/>
              <a:gd name="textAreaBottom" fmla="*/ 4989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470560" y="4789440"/>
            <a:ext cx="93672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43640" y="5869080"/>
            <a:ext cx="790560" cy="504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54560" y="6589800"/>
            <a:ext cx="792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551640" y="4861080"/>
            <a:ext cx="934920" cy="360360"/>
          </a:xfrm>
          <a:prstGeom prst="rightArrow">
            <a:avLst>
              <a:gd name="adj1" fmla="val 50000"/>
              <a:gd name="adj2" fmla="val 648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551640" y="6086520"/>
            <a:ext cx="863640" cy="287280"/>
          </a:xfrm>
          <a:prstGeom prst="rightArrow">
            <a:avLst>
              <a:gd name="adj1" fmla="val 50000"/>
              <a:gd name="adj2" fmla="val 751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90560" y="47181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eed.j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74560" y="4068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浏览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98920" y="36370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nehta.j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14920" y="579744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543640" y="49338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x.j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470560" y="59421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cook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26200" y="65898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062920" y="50054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HP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后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9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8064360"/>
                <a:tab algn="l" pos="9072720"/>
                <a:tab algn="l" pos="100807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nehta 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</a:rPr>
              <a:t>架构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1509840" y="4718160"/>
            <a:ext cx="7511760" cy="684000"/>
          </a:xfrm>
          <a:prstGeom prst="cube">
            <a:avLst>
              <a:gd name="adj" fmla="val 25000"/>
            </a:avLst>
          </a:prstGeom>
          <a:solidFill>
            <a:srgbClr val="9999cc">
              <a:alpha val="90000"/>
            </a:srgbClr>
          </a:solidFill>
          <a:ln w="0">
            <a:noFill/>
          </a:ln>
          <a:effectLst>
            <a:outerShdw dist="152735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H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后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09840" y="3565440"/>
            <a:ext cx="4968720" cy="684360"/>
          </a:xfrm>
          <a:prstGeom prst="cube">
            <a:avLst>
              <a:gd name="adj" fmla="val 25000"/>
            </a:avLst>
          </a:prstGeom>
          <a:solidFill>
            <a:srgbClr val="3deb3d">
              <a:alpha val="90000"/>
            </a:srgbClr>
          </a:solidFill>
          <a:ln w="0">
            <a:noFill/>
          </a:ln>
          <a:effectLst>
            <a:outerShdw dist="152735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nehta Logger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24840" y="2432160"/>
            <a:ext cx="1846080" cy="1780920"/>
          </a:xfrm>
          <a:prstGeom prst="cube">
            <a:avLst>
              <a:gd name="adj" fmla="val 25000"/>
            </a:avLst>
          </a:prstGeom>
          <a:solidFill>
            <a:srgbClr val="c8fac8">
              <a:alpha val="90000"/>
            </a:srgbClr>
          </a:solidFill>
          <a:ln w="0">
            <a:noFill/>
          </a:ln>
          <a:effectLst>
            <a:outerShdw dist="152735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nehta.j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09840" y="1260360"/>
            <a:ext cx="7511760" cy="684360"/>
          </a:xfrm>
          <a:prstGeom prst="cube">
            <a:avLst>
              <a:gd name="adj" fmla="val 25000"/>
            </a:avLst>
          </a:prstGeom>
          <a:solidFill>
            <a:srgbClr val="c8fac8">
              <a:alpha val="90000"/>
            </a:srgbClr>
          </a:solidFill>
          <a:ln w="0">
            <a:noFill/>
          </a:ln>
          <a:effectLst>
            <a:outerShdw dist="152735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eed.j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509840" y="2432160"/>
            <a:ext cx="5005080" cy="682560"/>
            <a:chOff x="1509840" y="2432160"/>
            <a:chExt cx="5005080" cy="682560"/>
          </a:xfrm>
        </p:grpSpPr>
        <p:sp>
          <p:nvSpPr>
            <p:cNvPr id="135" name=""/>
            <p:cNvSpPr/>
            <p:nvPr/>
          </p:nvSpPr>
          <p:spPr>
            <a:xfrm>
              <a:off x="1509840" y="2432160"/>
              <a:ext cx="2502720" cy="682560"/>
            </a:xfrm>
            <a:prstGeom prst="cube">
              <a:avLst>
                <a:gd name="adj" fmla="val 25000"/>
              </a:avLst>
            </a:prstGeom>
            <a:solidFill>
              <a:srgbClr val="3deb3d">
                <a:alpha val="90000"/>
              </a:srgbClr>
            </a:solidFill>
            <a:ln w="0">
              <a:noFill/>
            </a:ln>
            <a:effectLst>
              <a:outerShdw dist="152735" dir="2700000" blurRad="0" rotWithShape="0">
                <a:srgbClr val="808080">
                  <a:alpha val="9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XCookie.j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221000" y="2432160"/>
              <a:ext cx="2293920" cy="682560"/>
            </a:xfrm>
            <a:prstGeom prst="cube">
              <a:avLst>
                <a:gd name="adj" fmla="val 25000"/>
              </a:avLst>
            </a:prstGeom>
            <a:solidFill>
              <a:srgbClr val="3deb3d">
                <a:alpha val="90000"/>
              </a:srgbClr>
            </a:solidFill>
            <a:ln w="0">
              <a:noFill/>
            </a:ln>
            <a:effectLst>
              <a:outerShdw dist="152735" dir="2700000" blurRad="0" rotWithShape="0">
                <a:srgbClr val="808080">
                  <a:alpha val="9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canner.j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8080" cy="62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一切都源于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Feed.j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912672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非常易于扩展！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293840" y="1981080"/>
            <a:ext cx="7561080" cy="50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6948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</a:rPr>
              <a:t>核心库：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nehta.j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17480" y="1189080"/>
            <a:ext cx="8785440" cy="59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lnSpc>
                <a:spcPct val="98000"/>
              </a:lnSpc>
              <a:spcBef>
                <a:spcPts val="774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en-US" sz="3100" spc="-1" strike="noStrike">
                <a:solidFill>
                  <a:srgbClr val="000000"/>
                </a:solidFill>
                <a:latin typeface="Verdana"/>
              </a:rPr>
              <a:t>Javascript Framework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lnSpc>
                <a:spcPct val="98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Core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lnSpc>
                <a:spcPct val="98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Dom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lnSpc>
                <a:spcPct val="98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Net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lnSpc>
                <a:spcPct val="98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Logger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lnSpc>
                <a:spcPct val="98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Ajax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lnSpc>
                <a:spcPct val="98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Inject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lnSpc>
                <a:spcPct val="98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Hook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lnSpc>
                <a:spcPct val="98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Detect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lnSpc>
                <a:spcPct val="98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Scanner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lnSpc>
                <a:spcPct val="98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Trick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lnSpc>
                <a:spcPct val="98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 ……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9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8064360"/>
                <a:tab algn="l" pos="9072720"/>
                <a:tab algn="l" pos="100807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nehta Cach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1120" y="1477440"/>
            <a:ext cx="9069480" cy="499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lnSpc>
                <a:spcPct val="98000"/>
              </a:lnSpc>
              <a:spcBef>
                <a:spcPts val="950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一个客户端的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ach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anehtaCache.setItem(“Key”, “Value”);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anehtaCache.getItem(“Key”);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anehta.logger.logCache();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8080" cy="62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nehta Cache!!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912672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58920" y="1405080"/>
            <a:ext cx="943272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9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8064360"/>
                <a:tab algn="l" pos="9072720"/>
                <a:tab algn="l" pos="1008072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</a:rPr>
              <a:t>客户端识别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120" y="1477440"/>
            <a:ext cx="9069480" cy="499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P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okie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lash SharedObject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客户端水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9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8064360"/>
                <a:tab algn="l" pos="9072720"/>
                <a:tab algn="l" pos="100807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ross Site Cookie Steal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120" y="1189080"/>
            <a:ext cx="9069480" cy="56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浏览器安全模型的核心：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Same Origin Policy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XCookie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模块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Boomerang!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(Demo)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8560" y="166320"/>
            <a:ext cx="77724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8064360"/>
                <a:tab algn="l" pos="9072720"/>
                <a:tab algn="l" pos="100807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rowser Sniffer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74200" y="1476360"/>
            <a:ext cx="9069480" cy="59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lnSpc>
                <a:spcPct val="98000"/>
              </a:lnSpc>
              <a:spcBef>
                <a:spcPts val="975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3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900" spc="-1" strike="noStrike">
                <a:solidFill>
                  <a:srgbClr val="000000"/>
                </a:solidFill>
                <a:latin typeface="Verdana"/>
              </a:rPr>
              <a:t>如何识别浏览器版本？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975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975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900" spc="-1" strike="noStrike">
                <a:solidFill>
                  <a:srgbClr val="000000"/>
                </a:solidFill>
                <a:latin typeface="Verdana"/>
              </a:rPr>
              <a:t>UserAgent ?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975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975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900" spc="-1" strike="noStrike">
                <a:solidFill>
                  <a:srgbClr val="000000"/>
                </a:solidFill>
                <a:latin typeface="Verdana"/>
              </a:rPr>
              <a:t>Browser Sniffer!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9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8064360"/>
                <a:tab algn="l" pos="9072720"/>
                <a:tab algn="l" pos="100807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Browser Sniffer in Detail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1120" y="1382760"/>
            <a:ext cx="9069480" cy="52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某些浏览器特有的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M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对象或者方法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例如：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66ff"/>
                </a:solidFill>
                <a:latin typeface="Verdana"/>
              </a:rPr>
              <a:t>window.opera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:: Opera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独占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66ff"/>
                </a:solidFill>
                <a:latin typeface="Verdana"/>
              </a:rPr>
              <a:t>window.netscape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:: Mozilla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独占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66ff"/>
                </a:solidFill>
                <a:latin typeface="Verdana"/>
              </a:rPr>
              <a:t>window.Iterator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:: Firefox 2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以上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66ff"/>
                </a:solidFill>
                <a:latin typeface="Verdana"/>
              </a:rPr>
              <a:t>document.styleSheetSets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:: Firefox3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以上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&amp; Opera 9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以上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9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8064360"/>
                <a:tab algn="l" pos="9072720"/>
                <a:tab algn="l" pos="100807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ho am I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17480" y="140472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刺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·axis ·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大风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·aullik5 ·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道哥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·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默罕默德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333399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Verdana"/>
              </a:rPr>
              <a:t>Ph4nt0m Security Team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333399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hi.baidu.com/aullik5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9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8064360"/>
                <a:tab algn="l" pos="9072720"/>
                <a:tab algn="l" pos="1008072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</a:rPr>
              <a:t>信息刺探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1360" y="1117080"/>
            <a:ext cx="9115560" cy="57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66ff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66ff"/>
                </a:solidFill>
                <a:latin typeface="Verdana"/>
              </a:rPr>
              <a:t>anehta.detect.screenSize();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66ff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66ff"/>
                </a:solidFill>
                <a:latin typeface="Verdana"/>
              </a:rPr>
              <a:t>anehta.scanner.ffPlugins();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66ff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66ff"/>
                </a:solidFill>
                <a:latin typeface="Verdana"/>
              </a:rPr>
              <a:t>anehta.scanner.activex();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66ff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66ff"/>
                </a:solidFill>
                <a:latin typeface="Verdana"/>
              </a:rPr>
              <a:t>anehta.scanner.history();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8080" cy="62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Keylogger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912672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A Javascript Keylogger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onkeypress , onkeydown, onkeyup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66ff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66ff"/>
                </a:solidFill>
                <a:latin typeface="Verdana"/>
              </a:rPr>
              <a:t>anehta.hook.installKeyloggerToAllInputs();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9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8064360"/>
                <a:tab algn="l" pos="9072720"/>
                <a:tab algn="l" pos="100807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Hook!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58560" y="1405080"/>
            <a:ext cx="934380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55320" indent="-3553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Hook JS Function!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5532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5532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55320" indent="-3553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Hook Form Submit!!!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5532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55320" indent="-355320">
              <a:lnSpc>
                <a:spcPct val="98000"/>
              </a:lnSpc>
              <a:spcBef>
                <a:spcPts val="876"/>
              </a:spcBef>
              <a:buClr>
                <a:srgbClr val="0066ff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66ff"/>
                </a:solidFill>
                <a:latin typeface="Verdana"/>
              </a:rPr>
              <a:t>anehta.hook.hookAllForms();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5532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55320" indent="-3553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Demo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5532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9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8064360"/>
                <a:tab algn="l" pos="9072720"/>
                <a:tab algn="l" pos="100807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Persist Cookie and Online Proxy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1120" y="1260000"/>
            <a:ext cx="906948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Restful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架构下大型网站的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Session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问题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66ff"/>
                </a:solidFill>
                <a:latin typeface="Verdana"/>
              </a:rPr>
              <a:t>anehta.dom.persistCookie(“Cookie1”);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Online Proxy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9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8064360"/>
                <a:tab algn="l" pos="9072720"/>
                <a:tab algn="l" pos="100807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ent Proxy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30200" y="1477440"/>
            <a:ext cx="9344160" cy="55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lnSpc>
                <a:spcPct val="98000"/>
              </a:lnSpc>
              <a:spcBef>
                <a:spcPts val="774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跨域限制 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万恶的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Same Origin Policy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7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774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httponly cookie, 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内部网络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客户端证书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7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774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验证码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7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774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Workflow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7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hi.baidu.com/aullik5/blog/item/d38bba00c1e3d104738da5e1.html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9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8064360"/>
                <a:tab algn="l" pos="9072720"/>
                <a:tab algn="l" pos="100807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ome Tricks!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58560" y="1549440"/>
            <a:ext cx="934380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Hijack Link?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Phishing with XSS~!!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8080" cy="62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XSS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的传统分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912672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DOM based XSS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Reflected XSS (Non-persist XSS)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Stored XSS (Persist XSS)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9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8064360"/>
                <a:tab algn="l" pos="9072720"/>
                <a:tab algn="l" pos="1008072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</a:rPr>
              <a:t>有必要再次细分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XS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74200" y="1404720"/>
            <a:ext cx="900108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针对不同的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XSS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，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payload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写法也会不同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XSS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是与业务紧密相关的！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8080" cy="62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几类有特点的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XSS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漏洞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1480" y="1405080"/>
            <a:ext cx="9126720" cy="548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Cross Page XSS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用户停留在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XSS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页面的时间维度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Pre-Auth XSS/ Post-Auth XSS (Session Fixation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与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SessionIE)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用户交互性强弱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9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8064360"/>
                <a:tab algn="l" pos="9072720"/>
                <a:tab algn="l" pos="100807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rite a Worm with Anehta!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1120" y="154944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Anehta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让你只需要集中精力写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WORM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的功能即可！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丰富的网络连接函数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66ff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66ff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66ff"/>
                </a:solidFill>
                <a:latin typeface="Verdana"/>
              </a:rPr>
              <a:t>anehta.net.getURL();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66ff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66ff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66ff"/>
                </a:solidFill>
                <a:latin typeface="Verdana"/>
              </a:rPr>
              <a:t>anehta.net.cssGet();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66ff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66ff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66ff"/>
                </a:solidFill>
                <a:latin typeface="Verdana"/>
              </a:rPr>
              <a:t>anehta.net.postFormIntoIframe();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66ff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66ff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66ff"/>
                </a:solidFill>
                <a:latin typeface="Verdana"/>
              </a:rPr>
              <a:t>anehta.ajax.get();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66ff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66ff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66ff"/>
                </a:solidFill>
                <a:latin typeface="Verdana"/>
              </a:rPr>
              <a:t>anehta.ajax.post();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8080" cy="62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网络安全现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912672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系统安全与应用安全两极化发展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Verdan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系统安全的研究越来越底层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Verdan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应用安全的研究越来越表层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Verdan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小结：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2" marL="1260360" indent="-252360"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研究系统安全的越来越变态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260360" indent="-252360"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研究应用安全的越来越猥琐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260360" indent="0">
              <a:spcBef>
                <a:spcPts val="649"/>
              </a:spcBef>
              <a:buNone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9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8064360"/>
                <a:tab algn="l" pos="9072720"/>
                <a:tab algn="l" pos="100807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nehta 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</a:rPr>
              <a:t>未来的发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45840" y="1693440"/>
            <a:ext cx="849636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XSS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状态保存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lnSpc>
                <a:spcPct val="98000"/>
              </a:lnSpc>
              <a:spcBef>
                <a:spcPts val="774"/>
              </a:spcBef>
              <a:buClr>
                <a:srgbClr val="000000"/>
              </a:buClr>
              <a:buFont typeface="Verdan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本地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Cookie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lnSpc>
                <a:spcPct val="98000"/>
              </a:lnSpc>
              <a:spcBef>
                <a:spcPts val="774"/>
              </a:spcBef>
              <a:buClr>
                <a:srgbClr val="000000"/>
              </a:buClr>
              <a:buFont typeface="Verdan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Flash SharedObjects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lnSpc>
                <a:spcPct val="98000"/>
              </a:lnSpc>
              <a:spcBef>
                <a:spcPts val="774"/>
              </a:spcBef>
              <a:buClr>
                <a:srgbClr val="000000"/>
              </a:buClr>
              <a:buFont typeface="Verdan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 “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断点续传”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lnSpc>
                <a:spcPct val="98000"/>
              </a:lnSpc>
              <a:spcBef>
                <a:spcPts val="774"/>
              </a:spcBef>
              <a:buClr>
                <a:srgbClr val="000000"/>
              </a:buClr>
              <a:buFont typeface="Verdan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计划任务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使用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Flash AS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脚本重新实现大部分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API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功能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集成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Java Applet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实现部分功能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集成部分有用的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ActiveX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控件的方法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8080" cy="62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nehta 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未来的发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912672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Slave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统计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Verdan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上线时间统计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Verdan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地域统计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Verdan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页面统计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Verdan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其他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……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Slave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精确控制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Verdan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区别对待每一个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Slave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更友好的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UI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feed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生成器；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Module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生成器；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8080" cy="62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nehta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未来的发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912672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3000"/>
          </a:bodyPr>
          <a:p>
            <a:pPr marL="351360" indent="-35136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集成浏览器、客户端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Exploit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5136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51360" indent="-35136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Slave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上线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IM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通知、手机短信通知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5136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51360" indent="-35136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Html5 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等新特性的支持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5136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51360" indent="-35136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分布式计算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5136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51360" indent="-35136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更多的模块（广告作弊、知名站的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WORM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模块）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5136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51360" indent="-35136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XSS DB? 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8080" cy="62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不仅仅是一个攻击平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912672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Anehta --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双刃剑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anehta.js --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程序员和站长的好帮手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8080" cy="62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XSS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的防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912672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Input Filter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Output Encode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Secure by Default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8080" cy="62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广告时间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912672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anehta.googlecode.com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http://planet.ph4nt0m.org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Ph4nt0m Webzine!!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3280" y="163800"/>
            <a:ext cx="785952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770120"/>
            <a:ext cx="91155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 algn="ctr">
              <a:lnSpc>
                <a:spcPct val="98000"/>
              </a:lnSpc>
              <a:spcBef>
                <a:spcPts val="1525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6100" spc="-1" strike="noStrike">
                <a:solidFill>
                  <a:srgbClr val="000000"/>
                </a:solidFill>
                <a:latin typeface="Verdana"/>
              </a:rPr>
              <a:t>创意无极限</a:t>
            </a:r>
            <a:r>
              <a:rPr b="0" lang="en-US" sz="6100" spc="-1" strike="noStrike">
                <a:solidFill>
                  <a:srgbClr val="000000"/>
                </a:solidFill>
                <a:latin typeface="Verdana"/>
              </a:rPr>
              <a:t>!</a:t>
            </a:r>
            <a:endParaRPr b="0" lang="en-US" sz="6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9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8064360"/>
                <a:tab algn="l" pos="9072720"/>
                <a:tab algn="l" pos="1008072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</a:rPr>
              <a:t>谢谢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!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770120"/>
            <a:ext cx="91155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 algn="ctr">
              <a:spcBef>
                <a:spcPts val="242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9700" spc="-1" strike="noStrike">
                <a:solidFill>
                  <a:srgbClr val="000000"/>
                </a:solidFill>
                <a:latin typeface="Verdana"/>
              </a:rPr>
              <a:t>提问</a:t>
            </a:r>
            <a:r>
              <a:rPr b="0" lang="en-US" sz="97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9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8080" cy="62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应用安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912672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在线数据越来越重要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Gmail, Myspace, Facebook, Taobao, Alipay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Web 2.0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发展下越来越多的计算工作被放到客户端处理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目前的安全技术发展实际上落后于应用技术的发展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9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8064360"/>
                <a:tab algn="l" pos="9072720"/>
                <a:tab algn="l" pos="100807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XS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17480" y="140472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OWASP Top 1 Threat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XSS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后能做什么？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lnSpc>
                <a:spcPct val="98000"/>
              </a:lnSpc>
              <a:spcBef>
                <a:spcPts val="774"/>
              </a:spcBef>
              <a:buClr>
                <a:srgbClr val="000000"/>
              </a:buClr>
              <a:buFont typeface="Verdan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劫持浏览器；一切浏览器能做的事情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XSS Payload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9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8064360"/>
                <a:tab algn="l" pos="9072720"/>
                <a:tab algn="l" pos="100807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hat is Anehta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120" y="1549440"/>
            <a:ext cx="906948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43800" indent="-3438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Verdana"/>
              </a:rPr>
              <a:t>高级</a:t>
            </a:r>
            <a:r>
              <a:rPr b="1" lang="en-US" sz="3500" spc="-1" strike="noStrike">
                <a:solidFill>
                  <a:srgbClr val="000000"/>
                </a:solidFill>
                <a:latin typeface="Verdana"/>
              </a:rPr>
              <a:t>XSS</a:t>
            </a:r>
            <a:r>
              <a:rPr b="1" lang="zh-CN" sz="3500" spc="-1" strike="noStrike">
                <a:solidFill>
                  <a:srgbClr val="000000"/>
                </a:solidFill>
                <a:latin typeface="Verdana"/>
              </a:rPr>
              <a:t>攻击利用平台</a:t>
            </a:r>
            <a:r>
              <a:rPr b="1" lang="en-US" sz="3500" spc="-1" strike="noStrike">
                <a:solidFill>
                  <a:srgbClr val="000000"/>
                </a:solidFill>
                <a:latin typeface="Verdana"/>
              </a:rPr>
              <a:t>(Platform)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lvl="1" marL="745200" indent="-287280">
              <a:spcBef>
                <a:spcPts val="774"/>
              </a:spcBef>
              <a:buClr>
                <a:srgbClr val="000000"/>
              </a:buClr>
              <a:buFont typeface="Verdan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客户端信息刺探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745200" indent="-287280">
              <a:spcBef>
                <a:spcPts val="774"/>
              </a:spcBef>
              <a:buClr>
                <a:srgbClr val="000000"/>
              </a:buClr>
              <a:buFont typeface="Verdan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隐私数据获取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745200" indent="-287280">
              <a:spcBef>
                <a:spcPts val="774"/>
              </a:spcBef>
              <a:buClr>
                <a:srgbClr val="000000"/>
              </a:buClr>
              <a:buFont typeface="Verdan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网络请求（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GET/POST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745200" indent="-287280">
              <a:spcBef>
                <a:spcPts val="774"/>
              </a:spcBef>
              <a:buClr>
                <a:srgbClr val="000000"/>
              </a:buClr>
              <a:buFont typeface="Verdan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……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3800" indent="-3438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Reverse word of “Athena”(</a:t>
            </a:r>
            <a:r>
              <a:rPr b="0" lang="zh-CN" sz="3500" spc="-1" strike="noStrike">
                <a:solidFill>
                  <a:srgbClr val="333399"/>
                </a:solidFill>
                <a:latin typeface="Verdana"/>
              </a:rPr>
              <a:t>反转雅典娜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43800" indent="0"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43800" indent="-3438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发音（跟我念）：</a:t>
            </a:r>
            <a:r>
              <a:rPr b="1" lang="zh-CN" sz="3500" spc="-1" strike="noStrike">
                <a:solidFill>
                  <a:srgbClr val="333399"/>
                </a:solidFill>
                <a:latin typeface="Verdana"/>
              </a:rPr>
              <a:t>阿</a:t>
            </a:r>
            <a:r>
              <a:rPr b="1" lang="en-US" sz="3500" spc="-1" strike="noStrike">
                <a:solidFill>
                  <a:srgbClr val="333399"/>
                </a:solidFill>
                <a:latin typeface="Verdana"/>
              </a:rPr>
              <a:t>~</a:t>
            </a:r>
            <a:r>
              <a:rPr b="1" lang="zh-CN" sz="3500" spc="-1" strike="noStrike">
                <a:solidFill>
                  <a:srgbClr val="333399"/>
                </a:solidFill>
                <a:latin typeface="Verdana"/>
              </a:rPr>
              <a:t>内</a:t>
            </a:r>
            <a:r>
              <a:rPr b="1" lang="en-US" sz="3500" spc="-1" strike="noStrike">
                <a:solidFill>
                  <a:srgbClr val="333399"/>
                </a:solidFill>
                <a:latin typeface="Verdana"/>
              </a:rPr>
              <a:t>~</a:t>
            </a:r>
            <a:r>
              <a:rPr b="1" lang="zh-CN" sz="3500" spc="-1" strike="noStrike">
                <a:solidFill>
                  <a:srgbClr val="333399"/>
                </a:solidFill>
                <a:latin typeface="Verdana"/>
              </a:rPr>
              <a:t>塔</a:t>
            </a:r>
            <a:r>
              <a:rPr b="1" lang="en-US" sz="3500" spc="-1" strike="noStrike">
                <a:solidFill>
                  <a:srgbClr val="333399"/>
                </a:solidFill>
                <a:latin typeface="Verdana"/>
              </a:rPr>
              <a:t>~</a:t>
            </a:r>
            <a:r>
              <a:rPr b="1" lang="zh-CN" sz="3500" spc="-1" strike="noStrike">
                <a:solidFill>
                  <a:srgbClr val="333399"/>
                </a:solidFill>
                <a:latin typeface="Verdana"/>
              </a:rPr>
              <a:t>！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43800" indent="-3438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DEMO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8080" cy="62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XSS 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的利用形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912672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针对个别目标的有针对性的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XSS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针对大规模目标的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XSS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Verdan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XSS WORM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8080" cy="62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一些已有的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XSS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攻击平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912672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Attack API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BeEF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XSS Shell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8080" cy="62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hy Anehta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912672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现有平台不够好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目标：集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Web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攻击之大成者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!!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尽量降低跨站师们的重复工作量，让跨站师们能够把更多的精力放在处理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XSS Payload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的业务逻辑上！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最后：一个能够实现我全部想法的平台，想怎么整就怎么整！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x</dc:creator>
  <dc:description/>
  <cp:keywords>netifera platform network security open source</cp:keywords>
  <dc:language>en-US</dc:language>
  <cp:lastModifiedBy>hanqin.wuhq</cp:lastModifiedBy>
  <dcterms:modified xsi:type="dcterms:W3CDTF">2008-11-21T03:53:10Z</dcterms:modified>
  <cp:revision>138</cp:revision>
  <dc:subject/>
  <dc:title>The netifera platform</dc:title>
</cp:coreProperties>
</file>