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F4EF-E5AB-4356-B04A-8A7C761D80BB}" type="datetime">
              <a:rPr b="0" lang="en-US" sz="1200" spc="-1" strike="noStrike">
                <a:solidFill>
                  <a:srgbClr val="000000"/>
                </a:solidFill>
                <a:latin typeface="Verdana"/>
              </a:rPr>
              <a:t>07/31/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B098-3AB2-41F5-9342-3E1DEAD0DE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E808-C129-43CB-877D-E54E98E6EF1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9E1A-185A-49F4-83D2-D090B3F4F84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CE107-04F0-42AB-BC33-B7E8CD78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0CFF-4E97-4D21-9F97-E29C31CF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AF9A7-8271-4EB1-95B2-84C2F7B9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39112-259F-4898-8FC6-5B2575E8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DB763-89EC-4CBA-9169-821E63427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8419F-D409-4E6E-AA08-2CA82EBC4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AD3F6-63A1-424E-B991-EA52B65C7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3CCBC-C528-4244-8408-8A19EE0FD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F032E-353D-44A7-97A3-98929BA55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3D4F5-9C92-48A3-9D28-76537CF3A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518E-A762-43F7-8AF6-8122357D3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63175-E524-4C0E-8F05-0A24492F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7A0E9-35B5-4C24-8785-CD291E4D0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8B56-A732-4308-9C36-950CD6A6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F1C31-4A9F-42A4-8473-F09249704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6C991-6DF6-4BEA-BB00-660412B64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2F3F4-D974-406A-85A0-DF030EF6D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7AEDA-5B13-4C8F-A8DC-38A9C63F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40730-522E-4676-8D11-763475B1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5C8E-4D27-4743-83D7-C51A5F2B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B2ACA-CD31-4A61-AE3A-76CDC71D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2740-5832-4DB6-94E0-307487E7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B4ED-A5A5-4986-AB16-03AF472C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28DCC-526C-49DB-8541-1D6DDB149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852A-80A7-4269-BC63-9B78FB680FFA}" type="datetime">
              <a:rPr b="0" lang="en-US" sz="1200" spc="-1" strike="noStrike">
                <a:solidFill>
                  <a:srgbClr val="000000"/>
                </a:solidFill>
                <a:latin typeface="Verdana"/>
              </a:rPr>
              <a:t>07/31/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2FB2-F4B0-4E13-952E-9DFC8953D2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66CE-7EF1-401A-A208-FA0CA280D8EE}" type="datetime">
              <a:rPr b="0" lang="en-US" sz="1200" spc="-1" strike="noStrike">
                <a:solidFill>
                  <a:srgbClr val="eaeaea"/>
                </a:solidFill>
                <a:latin typeface="Verdana"/>
              </a:rPr>
              <a:t>07/31/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D123-9811-4D51-BF8E-5497B9DA2012}"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