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1D2D-FCC7-40C0-B139-5CFA02105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32A9-A7EE-4C7B-A2CF-99A60AC1F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C064-C1E7-4755-8DF2-6C4B1EA5A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DBDA-E674-4A5C-B614-D3F2BF2FF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CFFE-A16C-47CA-9D35-06A43FE7B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0384-BAE1-42F9-9883-0E0A74A4B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CD88-4610-43A7-961F-A599AB051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A358-DE67-47D5-8641-C301204F4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6146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ED85-C66F-4867-A27D-9323D7D0A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0A96-F743-41EB-9270-0C295CAE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BBFB-B204-43AB-80A2-58B42AF5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7A25-4F3E-42DD-A229-63BF3BA2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279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8D08C-1CE0-45B7-BFAE-EEB3360170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25236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Verdana"/>
              </a:rPr>
              <a:t>Structure 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5520" y="80028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Verdana"/>
              </a:rPr>
              <a:t>Structures 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40000" y="476280"/>
            <a:ext cx="1727280" cy="360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59600" spc="-1" strike="noStrike">
                <a:solidFill>
                  <a:srgbClr val="000000"/>
                </a:solidFill>
                <a:latin typeface="Verdana"/>
              </a:rPr>
              <a:t>Transformation</a:t>
            </a:r>
            <a:endParaRPr b="0" lang="en-US" sz="355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15920"/>
            <a:ext cx="67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ffff"/>
                </a:solidFill>
                <a:latin typeface="Verdana"/>
              </a:rPr>
              <a:t>XML et X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08000" y="1197000"/>
            <a:ext cx="5040360" cy="291960"/>
          </a:xfrm>
          <a:prstGeom prst="rect">
            <a:avLst/>
          </a:prstGeom>
          <a:noFill/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&lt;?xml version="1.0" en_oding="ISO-8859-1" ?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1700280"/>
            <a:ext cx="4321080" cy="2810160"/>
          </a:xfrm>
          <a:prstGeom prst="rect">
            <a:avLst/>
          </a:prstGeom>
          <a:noFill/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bibiothequ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livre nom="Guerre et paix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auteur="Léon Tolstoï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genre="roman" /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livre nom="Fondation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auteur="Isaac Asimov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genre="science-fiction" /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livre nom="La nuit du renard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auteur="Mary Higgins Clark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genre="policier" /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/bibliothequ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0" y="1700280"/>
            <a:ext cx="4321080" cy="4339440"/>
          </a:xfrm>
          <a:prstGeom prst="rect">
            <a:avLst/>
          </a:prstGeom>
          <a:noFill/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bibliothequ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liv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nom&gt;Guerre et paix&lt;/nom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auteur&gt;Léon Tolstoï&lt;/auteu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genre&gt;roman&lt;/genre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/liv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liv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nom&gt;Fondation&lt;/nom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auteur&gt;Isaac Asimov&lt;/auteu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genre&gt;science-fiction&lt;/gen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/liv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liv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nom&gt;La nuit du renard&lt;/nom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auteur&gt;Mary Higgins Clark&lt;/auteu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genre&gt;policier&lt;/gen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/liv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/bibliothequ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4292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XS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